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50440" y="142560"/>
            <a:ext cx="7983720" cy="36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143000" y="3926160"/>
            <a:ext cx="77724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25680" y="17193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4300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25680" y="3926160"/>
            <a:ext cx="379260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77100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398640" y="17193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143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77100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398640" y="3926160"/>
            <a:ext cx="2502360" cy="201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10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ftr" idx="11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12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3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6 Imagen" descr="Untitled.jpg"/>
          <p:cNvPicPr/>
          <p:nvPr/>
        </p:nvPicPr>
        <p:blipFill>
          <a:blip r:embed="rId2"/>
          <a:stretch/>
        </p:blipFill>
        <p:spPr>
          <a:xfrm>
            <a:off x="0" y="3191040"/>
            <a:ext cx="3457440" cy="366696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0" y="3214800"/>
            <a:ext cx="3500280" cy="3643200"/>
          </a:xfrm>
          <a:prstGeom prst="rect">
            <a:avLst/>
          </a:prstGeom>
          <a:solidFill>
            <a:srgbClr val="ffffe1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525600" y="6515280"/>
            <a:ext cx="5551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3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4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ftr" idx="5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6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7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8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Line 14"/>
          <p:cNvSpPr/>
          <p:nvPr/>
        </p:nvSpPr>
        <p:spPr>
          <a:xfrm>
            <a:off x="349200" y="1000080"/>
            <a:ext cx="83581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13 Conector recto"/>
          <p:cNvSpPr/>
          <p:nvPr/>
        </p:nvSpPr>
        <p:spPr>
          <a:xfrm>
            <a:off x="457200" y="6496200"/>
            <a:ext cx="8229600" cy="0"/>
          </a:xfrm>
          <a:prstGeom prst="line">
            <a:avLst/>
          </a:prstGeom>
          <a:ln w="9360">
            <a:solidFill>
              <a:srgbClr val="99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14 Triángulo isósceles"/>
          <p:cNvSpPr/>
          <p:nvPr/>
        </p:nvSpPr>
        <p:spPr>
          <a:xfrm rot="5400000">
            <a:off x="133200" y="6619680"/>
            <a:ext cx="190440" cy="12096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6324480" y="6521400"/>
            <a:ext cx="27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GECO – Microeconomía 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43000" y="171936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16680" indent="-237240">
              <a:spcBef>
                <a:spcPts val="2001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2" marL="94860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3" marL="1328040" indent="-189720">
              <a:spcBef>
                <a:spcPts val="20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4" marL="1707480" indent="-189720"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5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6" marL="1707480" indent="-189720">
              <a:spcBef>
                <a:spcPts val="2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9"/>
          </p:nvPr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7f7f7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7f7f7f"/>
                </a:solidFill>
                <a:latin typeface="Calibri"/>
                <a:ea typeface="Calibri"/>
              </a:rPr>
              <a:t>Parte I. Mercados Competitivos y no Competi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112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f7f7f"/>
                </a:solidFill>
                <a:latin typeface="Arial"/>
              </a:rPr>
              <a:t>Tema 6</a:t>
            </a:r>
            <a:endParaRPr b="1" lang="en-US" sz="6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2371680" y="2571840"/>
            <a:ext cx="6400800" cy="25192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b2b2b2">
                <a:alpha val="75000"/>
              </a:srgbClr>
            </a:outerShdw>
          </a:effectLst>
        </p:spPr>
        <p:txBody>
          <a:bodyPr lIns="90360" rIns="90360" tIns="44280" bIns="44280" anchor="t">
            <a:noAutofit/>
          </a:bodyPr>
          <a:p>
            <a:pPr indent="0" algn="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262626"/>
                </a:solidFill>
                <a:latin typeface="Arial"/>
              </a:rPr>
              <a:t>Fallos de mercado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32"/>
          <p:cNvGrpSpPr/>
          <p:nvPr/>
        </p:nvGrpSpPr>
        <p:grpSpPr>
          <a:xfrm>
            <a:off x="1819800" y="3456000"/>
            <a:ext cx="5042880" cy="439560"/>
            <a:chOff x="1819800" y="3456000"/>
            <a:chExt cx="5042880" cy="439560"/>
          </a:xfrm>
        </p:grpSpPr>
        <p:sp>
          <p:nvSpPr>
            <p:cNvPr id="665" name="Line 9"/>
            <p:cNvSpPr/>
            <p:nvPr/>
          </p:nvSpPr>
          <p:spPr>
            <a:xfrm>
              <a:off x="2211480" y="3759120"/>
              <a:ext cx="4113000" cy="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0"/>
            <p:cNvSpPr/>
            <p:nvPr/>
          </p:nvSpPr>
          <p:spPr>
            <a:xfrm>
              <a:off x="6326280" y="3532320"/>
              <a:ext cx="53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27"/>
            <p:cNvSpPr/>
            <p:nvPr/>
          </p:nvSpPr>
          <p:spPr>
            <a:xfrm>
              <a:off x="1819800" y="345600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Rectangle 2"/>
          <p:cNvSpPr/>
          <p:nvPr/>
        </p:nvSpPr>
        <p:spPr>
          <a:xfrm>
            <a:off x="762120" y="6197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3276720" y="6197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Los beneficios externos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3124080" y="6191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6"/>
          <p:cNvSpPr/>
          <p:nvPr/>
        </p:nvSpPr>
        <p:spPr>
          <a:xfrm>
            <a:off x="2209680" y="1658880"/>
            <a:ext cx="0" cy="429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6621480" y="5813280"/>
            <a:ext cx="2289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vel de repar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1295280" y="1473120"/>
            <a:ext cx="753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31"/>
          <p:cNvGrpSpPr/>
          <p:nvPr/>
        </p:nvGrpSpPr>
        <p:grpSpPr>
          <a:xfrm>
            <a:off x="2206800" y="2538360"/>
            <a:ext cx="3663720" cy="3129120"/>
            <a:chOff x="2206800" y="2538360"/>
            <a:chExt cx="3663720" cy="3129120"/>
          </a:xfrm>
        </p:grpSpPr>
        <p:sp>
          <p:nvSpPr>
            <p:cNvPr id="676" name="Freeform 11"/>
            <p:cNvSpPr/>
            <p:nvPr/>
          </p:nvSpPr>
          <p:spPr>
            <a:xfrm>
              <a:off x="2206800" y="2538360"/>
              <a:ext cx="3663720" cy="3129120"/>
            </a:xfrm>
            <a:custGeom>
              <a:avLst/>
              <a:gdLst>
                <a:gd name="textAreaLeft" fmla="*/ 0 w 3663720"/>
                <a:gd name="textAreaRight" fmla="*/ 3664080 w 3663720"/>
                <a:gd name="textAreaTop" fmla="*/ 0 h 3129120"/>
                <a:gd name="textAreaBottom" fmla="*/ 3129480 h 3129120"/>
              </a:gdLst>
              <a:ahLst/>
              <a:rect l="textAreaLeft" t="textAreaTop" r="textAreaRight" b="textAreaBottom"/>
              <a:pathLst>
                <a:path w="2308" h="1971">
                  <a:moveTo>
                    <a:pt x="0" y="0"/>
                  </a:moveTo>
                  <a:lnTo>
                    <a:pt x="41" y="51"/>
                  </a:lnTo>
                  <a:lnTo>
                    <a:pt x="95" y="126"/>
                  </a:lnTo>
                  <a:lnTo>
                    <a:pt x="154" y="207"/>
                  </a:lnTo>
                  <a:lnTo>
                    <a:pt x="225" y="299"/>
                  </a:lnTo>
                  <a:lnTo>
                    <a:pt x="373" y="495"/>
                  </a:lnTo>
                  <a:lnTo>
                    <a:pt x="450" y="593"/>
                  </a:lnTo>
                  <a:lnTo>
                    <a:pt x="521" y="679"/>
                  </a:lnTo>
                  <a:lnTo>
                    <a:pt x="668" y="846"/>
                  </a:lnTo>
                  <a:lnTo>
                    <a:pt x="828" y="1008"/>
                  </a:lnTo>
                  <a:lnTo>
                    <a:pt x="988" y="1158"/>
                  </a:lnTo>
                  <a:lnTo>
                    <a:pt x="1142" y="1302"/>
                  </a:lnTo>
                  <a:lnTo>
                    <a:pt x="1296" y="1428"/>
                  </a:lnTo>
                  <a:lnTo>
                    <a:pt x="1449" y="1549"/>
                  </a:lnTo>
                  <a:lnTo>
                    <a:pt x="1597" y="1653"/>
                  </a:lnTo>
                  <a:lnTo>
                    <a:pt x="1745" y="1745"/>
                  </a:lnTo>
                  <a:lnTo>
                    <a:pt x="1899" y="1820"/>
                  </a:lnTo>
                  <a:lnTo>
                    <a:pt x="2053" y="1884"/>
                  </a:lnTo>
                  <a:lnTo>
                    <a:pt x="2130" y="1907"/>
                  </a:lnTo>
                  <a:lnTo>
                    <a:pt x="2195" y="1930"/>
                  </a:lnTo>
                  <a:lnTo>
                    <a:pt x="2260" y="1953"/>
                  </a:lnTo>
                  <a:lnTo>
                    <a:pt x="2307" y="1970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2"/>
            <p:cNvSpPr/>
            <p:nvPr/>
          </p:nvSpPr>
          <p:spPr>
            <a:xfrm>
              <a:off x="2259000" y="2922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Rectangle 13"/>
          <p:cNvSpPr/>
          <p:nvPr/>
        </p:nvSpPr>
        <p:spPr>
          <a:xfrm>
            <a:off x="4967640" y="4108320"/>
            <a:ext cx="3840480" cy="819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¿Pueden las externalidades positiva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esmotivar la investigación y 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esarrollo en las empresa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9"/>
          <p:cNvSpPr/>
          <p:nvPr/>
        </p:nvSpPr>
        <p:spPr>
          <a:xfrm>
            <a:off x="2225520" y="5962680"/>
            <a:ext cx="430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33"/>
          <p:cNvGrpSpPr/>
          <p:nvPr/>
        </p:nvGrpSpPr>
        <p:grpSpPr>
          <a:xfrm>
            <a:off x="2827080" y="3683160"/>
            <a:ext cx="373320" cy="2615040"/>
            <a:chOff x="2827080" y="3683160"/>
            <a:chExt cx="373320" cy="2615040"/>
          </a:xfrm>
        </p:grpSpPr>
        <p:sp>
          <p:nvSpPr>
            <p:cNvPr id="681" name="Line 14"/>
            <p:cNvSpPr/>
            <p:nvPr/>
          </p:nvSpPr>
          <p:spPr>
            <a:xfrm>
              <a:off x="3124080" y="376092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15"/>
            <p:cNvSpPr/>
            <p:nvPr/>
          </p:nvSpPr>
          <p:spPr>
            <a:xfrm>
              <a:off x="3048120" y="36831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21"/>
            <p:cNvSpPr/>
            <p:nvPr/>
          </p:nvSpPr>
          <p:spPr>
            <a:xfrm>
              <a:off x="2827080" y="5932440"/>
              <a:ext cx="370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Freeform 16"/>
          <p:cNvSpPr/>
          <p:nvPr/>
        </p:nvSpPr>
        <p:spPr>
          <a:xfrm>
            <a:off x="2206800" y="1851120"/>
            <a:ext cx="3663720" cy="3816360"/>
          </a:xfrm>
          <a:custGeom>
            <a:avLst/>
            <a:gdLst>
              <a:gd name="textAreaLeft" fmla="*/ 0 w 3663720"/>
              <a:gd name="textAreaRight" fmla="*/ 3664080 w 3663720"/>
              <a:gd name="textAreaTop" fmla="*/ 0 h 3816360"/>
              <a:gd name="textAreaBottom" fmla="*/ 3816720 h 3816360"/>
            </a:gdLst>
            <a:ahLst/>
            <a:rect l="textAreaLeft" t="textAreaTop" r="textAreaRight" b="textAreaBottom"/>
            <a:pathLst>
              <a:path w="2308" h="2404">
                <a:moveTo>
                  <a:pt x="0" y="0"/>
                </a:moveTo>
                <a:lnTo>
                  <a:pt x="18" y="29"/>
                </a:lnTo>
                <a:lnTo>
                  <a:pt x="41" y="64"/>
                </a:lnTo>
                <a:lnTo>
                  <a:pt x="95" y="150"/>
                </a:lnTo>
                <a:lnTo>
                  <a:pt x="154" y="254"/>
                </a:lnTo>
                <a:lnTo>
                  <a:pt x="225" y="369"/>
                </a:lnTo>
                <a:lnTo>
                  <a:pt x="296" y="490"/>
                </a:lnTo>
                <a:lnTo>
                  <a:pt x="373" y="611"/>
                </a:lnTo>
                <a:lnTo>
                  <a:pt x="450" y="726"/>
                </a:lnTo>
                <a:lnTo>
                  <a:pt x="521" y="830"/>
                </a:lnTo>
                <a:lnTo>
                  <a:pt x="668" y="1032"/>
                </a:lnTo>
                <a:lnTo>
                  <a:pt x="828" y="1228"/>
                </a:lnTo>
                <a:lnTo>
                  <a:pt x="988" y="1418"/>
                </a:lnTo>
                <a:lnTo>
                  <a:pt x="1142" y="1591"/>
                </a:lnTo>
                <a:lnTo>
                  <a:pt x="1296" y="1746"/>
                </a:lnTo>
                <a:lnTo>
                  <a:pt x="1449" y="1890"/>
                </a:lnTo>
                <a:lnTo>
                  <a:pt x="1597" y="2017"/>
                </a:lnTo>
                <a:lnTo>
                  <a:pt x="1745" y="2132"/>
                </a:lnTo>
                <a:lnTo>
                  <a:pt x="1899" y="2224"/>
                </a:lnTo>
                <a:lnTo>
                  <a:pt x="2053" y="2294"/>
                </a:lnTo>
                <a:lnTo>
                  <a:pt x="2130" y="2328"/>
                </a:lnTo>
                <a:lnTo>
                  <a:pt x="2195" y="2357"/>
                </a:lnTo>
                <a:lnTo>
                  <a:pt x="2260" y="2380"/>
                </a:lnTo>
                <a:lnTo>
                  <a:pt x="2307" y="2403"/>
                </a:lnTo>
              </a:path>
            </a:pathLst>
          </a:custGeom>
          <a:noFill/>
          <a:ln cap="rnd"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17"/>
          <p:cNvSpPr/>
          <p:nvPr/>
        </p:nvSpPr>
        <p:spPr>
          <a:xfrm>
            <a:off x="2230560" y="1608120"/>
            <a:ext cx="68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8"/>
          <p:cNvSpPr/>
          <p:nvPr/>
        </p:nvSpPr>
        <p:spPr>
          <a:xfrm>
            <a:off x="2211480" y="5056200"/>
            <a:ext cx="3351240" cy="9129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20"/>
          <p:cNvSpPr/>
          <p:nvPr/>
        </p:nvSpPr>
        <p:spPr>
          <a:xfrm>
            <a:off x="2211480" y="4675320"/>
            <a:ext cx="68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9"/>
          <p:cNvSpPr/>
          <p:nvPr/>
        </p:nvSpPr>
        <p:spPr>
          <a:xfrm>
            <a:off x="2814480" y="1214280"/>
            <a:ext cx="2956680" cy="1367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ando hay externalidad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itivas (beneficios de l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araciones para los vecinos)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s beneficios socia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es BSM son mayo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 los beneficios marginale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2"/>
          <p:cNvSpPr/>
          <p:nvPr/>
        </p:nvSpPr>
        <p:spPr>
          <a:xfrm>
            <a:off x="3505320" y="3760920"/>
            <a:ext cx="0" cy="2208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23"/>
          <p:cNvSpPr/>
          <p:nvPr/>
        </p:nvSpPr>
        <p:spPr>
          <a:xfrm>
            <a:off x="3429000" y="368316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4"/>
          <p:cNvSpPr/>
          <p:nvPr/>
        </p:nvSpPr>
        <p:spPr>
          <a:xfrm>
            <a:off x="3278160" y="5932440"/>
            <a:ext cx="38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val 25"/>
          <p:cNvSpPr/>
          <p:nvPr/>
        </p:nvSpPr>
        <p:spPr>
          <a:xfrm>
            <a:off x="3429000" y="40640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26"/>
          <p:cNvSpPr/>
          <p:nvPr/>
        </p:nvSpPr>
        <p:spPr>
          <a:xfrm flipH="1">
            <a:off x="2211480" y="4140360"/>
            <a:ext cx="12175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8"/>
          <p:cNvSpPr/>
          <p:nvPr/>
        </p:nvSpPr>
        <p:spPr>
          <a:xfrm>
            <a:off x="1754280" y="3913200"/>
            <a:ext cx="42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0"/>
          <p:cNvSpPr/>
          <p:nvPr/>
        </p:nvSpPr>
        <p:spPr>
          <a:xfrm>
            <a:off x="5776920" y="2039760"/>
            <a:ext cx="3367080" cy="1550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 propietario de una vivienda q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túe interesadamente invierte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araciones. El nivel eficiente de reparacione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s mayor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precio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 demasiad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to para animarlo a inverti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 reparacion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aneras de corregir los fallos de mercad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230480" y="1430280"/>
            <a:ext cx="739584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Supuesto: la contaminación provoca los fallos del mercad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Tecnología de producción de proporciones fijas: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ebe reducir la producción para reducir las emisione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e emplea un impuesto sobre la producción para reducirl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osible sustitución de los factores, alterando la tecnologí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El nivel eficiente de emisiones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05" name="Rectangle 6"/>
          <p:cNvSpPr/>
          <p:nvPr/>
        </p:nvSpPr>
        <p:spPr>
          <a:xfrm>
            <a:off x="3124080" y="6242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"/>
          <p:cNvSpPr/>
          <p:nvPr/>
        </p:nvSpPr>
        <p:spPr>
          <a:xfrm>
            <a:off x="2209680" y="1709640"/>
            <a:ext cx="0" cy="429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8"/>
          <p:cNvSpPr/>
          <p:nvPr/>
        </p:nvSpPr>
        <p:spPr>
          <a:xfrm>
            <a:off x="2225520" y="6013440"/>
            <a:ext cx="5013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9"/>
          <p:cNvSpPr/>
          <p:nvPr/>
        </p:nvSpPr>
        <p:spPr>
          <a:xfrm>
            <a:off x="7362000" y="5962680"/>
            <a:ext cx="1787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vel de emision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1905120" y="47750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1"/>
          <p:cNvSpPr/>
          <p:nvPr/>
        </p:nvSpPr>
        <p:spPr>
          <a:xfrm>
            <a:off x="1905120" y="3606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2"/>
          <p:cNvSpPr/>
          <p:nvPr/>
        </p:nvSpPr>
        <p:spPr>
          <a:xfrm>
            <a:off x="1905120" y="243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3"/>
          <p:cNvSpPr/>
          <p:nvPr/>
        </p:nvSpPr>
        <p:spPr>
          <a:xfrm>
            <a:off x="952200" y="1371600"/>
            <a:ext cx="1310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óla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unidad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emision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4"/>
          <p:cNvSpPr/>
          <p:nvPr/>
        </p:nvSpPr>
        <p:spPr>
          <a:xfrm>
            <a:off x="205740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5"/>
          <p:cNvSpPr/>
          <p:nvPr/>
        </p:nvSpPr>
        <p:spPr>
          <a:xfrm>
            <a:off x="236052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6"/>
          <p:cNvSpPr/>
          <p:nvPr/>
        </p:nvSpPr>
        <p:spPr>
          <a:xfrm>
            <a:off x="266364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7"/>
          <p:cNvSpPr/>
          <p:nvPr/>
        </p:nvSpPr>
        <p:spPr>
          <a:xfrm>
            <a:off x="296712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8"/>
          <p:cNvSpPr/>
          <p:nvPr/>
        </p:nvSpPr>
        <p:spPr>
          <a:xfrm>
            <a:off x="327024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9"/>
          <p:cNvSpPr/>
          <p:nvPr/>
        </p:nvSpPr>
        <p:spPr>
          <a:xfrm>
            <a:off x="3571560" y="59436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0"/>
          <p:cNvSpPr/>
          <p:nvPr/>
        </p:nvSpPr>
        <p:spPr>
          <a:xfrm>
            <a:off x="4001760" y="59436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1"/>
          <p:cNvSpPr/>
          <p:nvPr/>
        </p:nvSpPr>
        <p:spPr>
          <a:xfrm>
            <a:off x="4431960" y="59436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2"/>
          <p:cNvSpPr/>
          <p:nvPr/>
        </p:nvSpPr>
        <p:spPr>
          <a:xfrm>
            <a:off x="4862160" y="59436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3"/>
          <p:cNvSpPr/>
          <p:nvPr/>
        </p:nvSpPr>
        <p:spPr>
          <a:xfrm>
            <a:off x="5290920" y="59436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4"/>
          <p:cNvSpPr/>
          <p:nvPr/>
        </p:nvSpPr>
        <p:spPr>
          <a:xfrm>
            <a:off x="5721120" y="59436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5"/>
          <p:cNvSpPr/>
          <p:nvPr/>
        </p:nvSpPr>
        <p:spPr>
          <a:xfrm>
            <a:off x="6151320" y="59436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26"/>
          <p:cNvSpPr/>
          <p:nvPr/>
        </p:nvSpPr>
        <p:spPr>
          <a:xfrm>
            <a:off x="6581520" y="59436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7"/>
          <p:cNvSpPr/>
          <p:nvPr/>
        </p:nvSpPr>
        <p:spPr>
          <a:xfrm>
            <a:off x="7009920" y="59436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48"/>
          <p:cNvGrpSpPr/>
          <p:nvPr/>
        </p:nvGrpSpPr>
        <p:grpSpPr>
          <a:xfrm>
            <a:off x="2670120" y="1795320"/>
            <a:ext cx="4557960" cy="3376800"/>
            <a:chOff x="2670120" y="1795320"/>
            <a:chExt cx="4557960" cy="3376800"/>
          </a:xfrm>
        </p:grpSpPr>
        <p:sp>
          <p:nvSpPr>
            <p:cNvPr id="728" name="Freeform 28"/>
            <p:cNvSpPr/>
            <p:nvPr/>
          </p:nvSpPr>
          <p:spPr>
            <a:xfrm>
              <a:off x="2670120" y="2208240"/>
              <a:ext cx="4114800" cy="296388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2963880"/>
                <a:gd name="textAreaBottom" fmla="*/ 2964240 h 2963880"/>
              </a:gdLst>
              <a:ahLst/>
              <a:rect l="textAreaLeft" t="textAreaTop" r="textAreaRight" b="textAreaBottom"/>
              <a:pathLst>
                <a:path w="2592" h="1867">
                  <a:moveTo>
                    <a:pt x="0" y="1866"/>
                  </a:moveTo>
                  <a:lnTo>
                    <a:pt x="41" y="1856"/>
                  </a:lnTo>
                  <a:lnTo>
                    <a:pt x="96" y="1840"/>
                  </a:lnTo>
                  <a:lnTo>
                    <a:pt x="137" y="1830"/>
                  </a:lnTo>
                  <a:lnTo>
                    <a:pt x="178" y="1814"/>
                  </a:lnTo>
                  <a:lnTo>
                    <a:pt x="225" y="1798"/>
                  </a:lnTo>
                  <a:lnTo>
                    <a:pt x="287" y="1777"/>
                  </a:lnTo>
                  <a:lnTo>
                    <a:pt x="355" y="1751"/>
                  </a:lnTo>
                  <a:lnTo>
                    <a:pt x="437" y="1720"/>
                  </a:lnTo>
                  <a:lnTo>
                    <a:pt x="519" y="1684"/>
                  </a:lnTo>
                  <a:lnTo>
                    <a:pt x="615" y="1647"/>
                  </a:lnTo>
                  <a:lnTo>
                    <a:pt x="813" y="1559"/>
                  </a:lnTo>
                  <a:lnTo>
                    <a:pt x="1005" y="1465"/>
                  </a:lnTo>
                  <a:lnTo>
                    <a:pt x="1101" y="1413"/>
                  </a:lnTo>
                  <a:lnTo>
                    <a:pt x="1203" y="1355"/>
                  </a:lnTo>
                  <a:lnTo>
                    <a:pt x="1415" y="1235"/>
                  </a:lnTo>
                  <a:lnTo>
                    <a:pt x="1613" y="1110"/>
                  </a:lnTo>
                  <a:lnTo>
                    <a:pt x="1702" y="1048"/>
                  </a:lnTo>
                  <a:lnTo>
                    <a:pt x="1784" y="985"/>
                  </a:lnTo>
                  <a:lnTo>
                    <a:pt x="1859" y="928"/>
                  </a:lnTo>
                  <a:lnTo>
                    <a:pt x="1921" y="876"/>
                  </a:lnTo>
                  <a:lnTo>
                    <a:pt x="2037" y="772"/>
                  </a:lnTo>
                  <a:lnTo>
                    <a:pt x="2140" y="662"/>
                  </a:lnTo>
                  <a:lnTo>
                    <a:pt x="2242" y="548"/>
                  </a:lnTo>
                  <a:lnTo>
                    <a:pt x="2290" y="480"/>
                  </a:lnTo>
                  <a:lnTo>
                    <a:pt x="2338" y="407"/>
                  </a:lnTo>
                  <a:lnTo>
                    <a:pt x="2441" y="256"/>
                  </a:lnTo>
                  <a:lnTo>
                    <a:pt x="2482" y="178"/>
                  </a:lnTo>
                  <a:lnTo>
                    <a:pt x="2523" y="110"/>
                  </a:lnTo>
                  <a:lnTo>
                    <a:pt x="2557" y="53"/>
                  </a:lnTo>
                  <a:lnTo>
                    <a:pt x="2591" y="0"/>
                  </a:lnTo>
                </a:path>
              </a:pathLst>
            </a:custGeom>
            <a:noFill/>
            <a:ln cap="rnd" w="507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35"/>
            <p:cNvSpPr/>
            <p:nvPr/>
          </p:nvSpPr>
          <p:spPr>
            <a:xfrm>
              <a:off x="6539040" y="1795320"/>
              <a:ext cx="689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S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Freeform 4"/>
          <p:cNvSpPr/>
          <p:nvPr/>
        </p:nvSpPr>
        <p:spPr>
          <a:xfrm>
            <a:off x="3049560" y="1908000"/>
            <a:ext cx="4116240" cy="4114800"/>
          </a:xfrm>
          <a:custGeom>
            <a:avLst/>
            <a:gdLst>
              <a:gd name="textAreaLeft" fmla="*/ 0 w 4116240"/>
              <a:gd name="textAreaRight" fmla="*/ 4116600 w 411624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593" h="2592">
                <a:moveTo>
                  <a:pt x="0" y="0"/>
                </a:moveTo>
                <a:lnTo>
                  <a:pt x="7" y="18"/>
                </a:lnTo>
                <a:lnTo>
                  <a:pt x="7" y="48"/>
                </a:lnTo>
                <a:lnTo>
                  <a:pt x="14" y="72"/>
                </a:lnTo>
                <a:lnTo>
                  <a:pt x="21" y="97"/>
                </a:lnTo>
                <a:lnTo>
                  <a:pt x="36" y="139"/>
                </a:lnTo>
                <a:lnTo>
                  <a:pt x="50" y="188"/>
                </a:lnTo>
                <a:lnTo>
                  <a:pt x="72" y="255"/>
                </a:lnTo>
                <a:lnTo>
                  <a:pt x="94" y="327"/>
                </a:lnTo>
                <a:lnTo>
                  <a:pt x="115" y="418"/>
                </a:lnTo>
                <a:lnTo>
                  <a:pt x="144" y="515"/>
                </a:lnTo>
                <a:lnTo>
                  <a:pt x="209" y="716"/>
                </a:lnTo>
                <a:lnTo>
                  <a:pt x="252" y="813"/>
                </a:lnTo>
                <a:lnTo>
                  <a:pt x="289" y="910"/>
                </a:lnTo>
                <a:lnTo>
                  <a:pt x="375" y="1104"/>
                </a:lnTo>
                <a:lnTo>
                  <a:pt x="476" y="1304"/>
                </a:lnTo>
                <a:lnTo>
                  <a:pt x="585" y="1499"/>
                </a:lnTo>
                <a:lnTo>
                  <a:pt x="650" y="1590"/>
                </a:lnTo>
                <a:lnTo>
                  <a:pt x="722" y="1675"/>
                </a:lnTo>
                <a:lnTo>
                  <a:pt x="801" y="1754"/>
                </a:lnTo>
                <a:lnTo>
                  <a:pt x="895" y="1826"/>
                </a:lnTo>
                <a:lnTo>
                  <a:pt x="1090" y="1966"/>
                </a:lnTo>
                <a:lnTo>
                  <a:pt x="1307" y="2093"/>
                </a:lnTo>
                <a:lnTo>
                  <a:pt x="1538" y="2209"/>
                </a:lnTo>
                <a:lnTo>
                  <a:pt x="1783" y="2318"/>
                </a:lnTo>
                <a:lnTo>
                  <a:pt x="2043" y="2409"/>
                </a:lnTo>
                <a:lnTo>
                  <a:pt x="2310" y="2500"/>
                </a:lnTo>
                <a:lnTo>
                  <a:pt x="2592" y="2591"/>
                </a:lnTo>
              </a:path>
            </a:pathLst>
          </a:custGeom>
          <a:noFill/>
          <a:ln cap="rnd"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41"/>
          <p:cNvSpPr/>
          <p:nvPr/>
        </p:nvSpPr>
        <p:spPr>
          <a:xfrm>
            <a:off x="7072200" y="5735520"/>
            <a:ext cx="701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36"/>
          <p:cNvSpPr/>
          <p:nvPr/>
        </p:nvSpPr>
        <p:spPr>
          <a:xfrm flipV="1">
            <a:off x="4191120" y="2223720"/>
            <a:ext cx="0" cy="3808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40"/>
          <p:cNvSpPr/>
          <p:nvPr/>
        </p:nvSpPr>
        <p:spPr>
          <a:xfrm>
            <a:off x="4114800" y="450864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43"/>
          <p:cNvSpPr/>
          <p:nvPr/>
        </p:nvSpPr>
        <p:spPr>
          <a:xfrm>
            <a:off x="4239720" y="5673600"/>
            <a:ext cx="39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45"/>
          <p:cNvSpPr/>
          <p:nvPr/>
        </p:nvSpPr>
        <p:spPr>
          <a:xfrm>
            <a:off x="6199920" y="4853160"/>
            <a:ext cx="2590920" cy="72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nivel eficiente de l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isiones es 12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, dond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MR = CSM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47"/>
          <p:cNvSpPr/>
          <p:nvPr/>
        </p:nvSpPr>
        <p:spPr>
          <a:xfrm>
            <a:off x="2170080" y="925560"/>
            <a:ext cx="6768000" cy="819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ongamo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) Mercado competitivo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) Las decisiones sobre la producción y las emisiones se realizan de forma independient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) Se elige la producción que maximice los beneficio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9"/>
          <p:cNvSpPr/>
          <p:nvPr/>
        </p:nvSpPr>
        <p:spPr>
          <a:xfrm>
            <a:off x="2211480" y="5029200"/>
            <a:ext cx="9126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0"/>
          <p:cNvSpPr/>
          <p:nvPr/>
        </p:nvSpPr>
        <p:spPr>
          <a:xfrm flipV="1">
            <a:off x="3124080" y="2211120"/>
            <a:ext cx="0" cy="38084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31"/>
          <p:cNvSpPr/>
          <p:nvPr/>
        </p:nvSpPr>
        <p:spPr>
          <a:xfrm>
            <a:off x="3048120" y="4952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37"/>
          <p:cNvSpPr/>
          <p:nvPr/>
        </p:nvSpPr>
        <p:spPr>
          <a:xfrm>
            <a:off x="3048120" y="21337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38"/>
          <p:cNvSpPr/>
          <p:nvPr/>
        </p:nvSpPr>
        <p:spPr>
          <a:xfrm>
            <a:off x="2211480" y="2209680"/>
            <a:ext cx="9126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46"/>
          <p:cNvSpPr/>
          <p:nvPr/>
        </p:nvSpPr>
        <p:spPr>
          <a:xfrm>
            <a:off x="6349680" y="2981160"/>
            <a:ext cx="2510280" cy="970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coste marginal d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ucción de las emision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 mayor que el cos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marginal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50"/>
          <p:cNvSpPr/>
          <p:nvPr/>
        </p:nvSpPr>
        <p:spPr>
          <a:xfrm>
            <a:off x="3069360" y="5661000"/>
            <a:ext cx="3826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32"/>
          <p:cNvSpPr/>
          <p:nvPr/>
        </p:nvSpPr>
        <p:spPr>
          <a:xfrm>
            <a:off x="2211480" y="3809880"/>
            <a:ext cx="33512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33"/>
          <p:cNvSpPr/>
          <p:nvPr/>
        </p:nvSpPr>
        <p:spPr>
          <a:xfrm flipV="1">
            <a:off x="5486400" y="388584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34"/>
          <p:cNvSpPr/>
          <p:nvPr/>
        </p:nvSpPr>
        <p:spPr>
          <a:xfrm>
            <a:off x="5410080" y="37339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39"/>
          <p:cNvSpPr/>
          <p:nvPr/>
        </p:nvSpPr>
        <p:spPr>
          <a:xfrm>
            <a:off x="5410080" y="53341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4"/>
          <p:cNvSpPr/>
          <p:nvPr/>
        </p:nvSpPr>
        <p:spPr>
          <a:xfrm>
            <a:off x="6003720" y="3983040"/>
            <a:ext cx="2729160" cy="757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coste social margi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 mayor que el cos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nal de reducció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2"/>
          <p:cNvSpPr/>
          <p:nvPr/>
        </p:nvSpPr>
        <p:spPr>
          <a:xfrm>
            <a:off x="5485320" y="5661000"/>
            <a:ext cx="3826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42"/>
          <p:cNvSpPr/>
          <p:nvPr/>
        </p:nvSpPr>
        <p:spPr>
          <a:xfrm>
            <a:off x="2477160" y="2408400"/>
            <a:ext cx="4494600" cy="5562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72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¿Por qué este caso es más eficiente qu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i no realizáramos ninguna emisió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1161720" y="1566360"/>
            <a:ext cx="7396200" cy="42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pciones para reducir la emisión hasta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E*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s normas sobre el nivel de emisiones: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45800" indent="-20556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limitación legal de las emisiones en el punto 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E*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(12 unidades)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45800" indent="-20556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uede ser objeto de sanciones monetarias e incluso penale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45800" indent="-20556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umenta el coste de producción y el precio umbral para introducirse en la industri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aneras de corregir los fallos de mercad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Normas y tasas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60" name="Rectangle 6"/>
          <p:cNvSpPr/>
          <p:nvPr/>
        </p:nvSpPr>
        <p:spPr>
          <a:xfrm>
            <a:off x="3124080" y="6242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7"/>
          <p:cNvSpPr/>
          <p:nvPr/>
        </p:nvSpPr>
        <p:spPr>
          <a:xfrm>
            <a:off x="2209680" y="1709640"/>
            <a:ext cx="0" cy="429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2187720" y="6013440"/>
            <a:ext cx="5013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9"/>
          <p:cNvSpPr/>
          <p:nvPr/>
        </p:nvSpPr>
        <p:spPr>
          <a:xfrm>
            <a:off x="7082640" y="6000840"/>
            <a:ext cx="1787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vel de emision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1"/>
          <p:cNvSpPr/>
          <p:nvPr/>
        </p:nvSpPr>
        <p:spPr>
          <a:xfrm>
            <a:off x="952200" y="1371600"/>
            <a:ext cx="1310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óla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unida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emision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22"/>
          <p:cNvGrpSpPr/>
          <p:nvPr/>
        </p:nvGrpSpPr>
        <p:grpSpPr>
          <a:xfrm>
            <a:off x="2670120" y="1795320"/>
            <a:ext cx="4557960" cy="3376800"/>
            <a:chOff x="2670120" y="1795320"/>
            <a:chExt cx="4557960" cy="3376800"/>
          </a:xfrm>
        </p:grpSpPr>
        <p:sp>
          <p:nvSpPr>
            <p:cNvPr id="766" name="Freeform 12"/>
            <p:cNvSpPr/>
            <p:nvPr/>
          </p:nvSpPr>
          <p:spPr>
            <a:xfrm>
              <a:off x="2670120" y="2208240"/>
              <a:ext cx="4114800" cy="296388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2963880"/>
                <a:gd name="textAreaBottom" fmla="*/ 2964240 h 2963880"/>
              </a:gdLst>
              <a:ahLst/>
              <a:rect l="textAreaLeft" t="textAreaTop" r="textAreaRight" b="textAreaBottom"/>
              <a:pathLst>
                <a:path w="2592" h="1867">
                  <a:moveTo>
                    <a:pt x="0" y="1866"/>
                  </a:moveTo>
                  <a:lnTo>
                    <a:pt x="41" y="1856"/>
                  </a:lnTo>
                  <a:lnTo>
                    <a:pt x="96" y="1840"/>
                  </a:lnTo>
                  <a:lnTo>
                    <a:pt x="137" y="1830"/>
                  </a:lnTo>
                  <a:lnTo>
                    <a:pt x="178" y="1814"/>
                  </a:lnTo>
                  <a:lnTo>
                    <a:pt x="225" y="1798"/>
                  </a:lnTo>
                  <a:lnTo>
                    <a:pt x="287" y="1777"/>
                  </a:lnTo>
                  <a:lnTo>
                    <a:pt x="355" y="1751"/>
                  </a:lnTo>
                  <a:lnTo>
                    <a:pt x="437" y="1720"/>
                  </a:lnTo>
                  <a:lnTo>
                    <a:pt x="519" y="1684"/>
                  </a:lnTo>
                  <a:lnTo>
                    <a:pt x="615" y="1647"/>
                  </a:lnTo>
                  <a:lnTo>
                    <a:pt x="813" y="1559"/>
                  </a:lnTo>
                  <a:lnTo>
                    <a:pt x="1005" y="1465"/>
                  </a:lnTo>
                  <a:lnTo>
                    <a:pt x="1101" y="1413"/>
                  </a:lnTo>
                  <a:lnTo>
                    <a:pt x="1203" y="1355"/>
                  </a:lnTo>
                  <a:lnTo>
                    <a:pt x="1415" y="1235"/>
                  </a:lnTo>
                  <a:lnTo>
                    <a:pt x="1613" y="1110"/>
                  </a:lnTo>
                  <a:lnTo>
                    <a:pt x="1702" y="1048"/>
                  </a:lnTo>
                  <a:lnTo>
                    <a:pt x="1784" y="985"/>
                  </a:lnTo>
                  <a:lnTo>
                    <a:pt x="1859" y="928"/>
                  </a:lnTo>
                  <a:lnTo>
                    <a:pt x="1921" y="876"/>
                  </a:lnTo>
                  <a:lnTo>
                    <a:pt x="2037" y="772"/>
                  </a:lnTo>
                  <a:lnTo>
                    <a:pt x="2140" y="662"/>
                  </a:lnTo>
                  <a:lnTo>
                    <a:pt x="2242" y="548"/>
                  </a:lnTo>
                  <a:lnTo>
                    <a:pt x="2290" y="480"/>
                  </a:lnTo>
                  <a:lnTo>
                    <a:pt x="2338" y="407"/>
                  </a:lnTo>
                  <a:lnTo>
                    <a:pt x="2441" y="256"/>
                  </a:lnTo>
                  <a:lnTo>
                    <a:pt x="2482" y="178"/>
                  </a:lnTo>
                  <a:lnTo>
                    <a:pt x="2523" y="110"/>
                  </a:lnTo>
                  <a:lnTo>
                    <a:pt x="2557" y="53"/>
                  </a:lnTo>
                  <a:lnTo>
                    <a:pt x="2591" y="0"/>
                  </a:lnTo>
                </a:path>
              </a:pathLst>
            </a:custGeom>
            <a:noFill/>
            <a:ln cap="rnd" w="507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3"/>
            <p:cNvSpPr/>
            <p:nvPr/>
          </p:nvSpPr>
          <p:spPr>
            <a:xfrm>
              <a:off x="6539040" y="1795320"/>
              <a:ext cx="689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S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23"/>
          <p:cNvGrpSpPr/>
          <p:nvPr/>
        </p:nvGrpSpPr>
        <p:grpSpPr>
          <a:xfrm>
            <a:off x="3049560" y="1908000"/>
            <a:ext cx="4190760" cy="4114800"/>
            <a:chOff x="3049560" y="1908000"/>
            <a:chExt cx="4190760" cy="4114800"/>
          </a:xfrm>
        </p:grpSpPr>
        <p:sp>
          <p:nvSpPr>
            <p:cNvPr id="769" name="Freeform 4"/>
            <p:cNvSpPr/>
            <p:nvPr/>
          </p:nvSpPr>
          <p:spPr>
            <a:xfrm>
              <a:off x="3049560" y="1908000"/>
              <a:ext cx="4116240" cy="4114800"/>
            </a:xfrm>
            <a:custGeom>
              <a:avLst/>
              <a:gdLst>
                <a:gd name="textAreaLeft" fmla="*/ 0 w 4116240"/>
                <a:gd name="textAreaRight" fmla="*/ 4116600 w 4116240"/>
                <a:gd name="textAreaTop" fmla="*/ 0 h 4114800"/>
                <a:gd name="textAreaBottom" fmla="*/ 4115160 h 4114800"/>
              </a:gdLst>
              <a:ahLst/>
              <a:rect l="textAreaLeft" t="textAreaTop" r="textAreaRight" b="textAreaBottom"/>
              <a:pathLst>
                <a:path w="2593" h="2592">
                  <a:moveTo>
                    <a:pt x="0" y="0"/>
                  </a:moveTo>
                  <a:lnTo>
                    <a:pt x="7" y="18"/>
                  </a:lnTo>
                  <a:lnTo>
                    <a:pt x="7" y="48"/>
                  </a:lnTo>
                  <a:lnTo>
                    <a:pt x="14" y="72"/>
                  </a:lnTo>
                  <a:lnTo>
                    <a:pt x="21" y="97"/>
                  </a:lnTo>
                  <a:lnTo>
                    <a:pt x="36" y="139"/>
                  </a:lnTo>
                  <a:lnTo>
                    <a:pt x="50" y="188"/>
                  </a:lnTo>
                  <a:lnTo>
                    <a:pt x="72" y="255"/>
                  </a:lnTo>
                  <a:lnTo>
                    <a:pt x="94" y="327"/>
                  </a:lnTo>
                  <a:lnTo>
                    <a:pt x="115" y="418"/>
                  </a:lnTo>
                  <a:lnTo>
                    <a:pt x="144" y="515"/>
                  </a:lnTo>
                  <a:lnTo>
                    <a:pt x="209" y="716"/>
                  </a:lnTo>
                  <a:lnTo>
                    <a:pt x="252" y="813"/>
                  </a:lnTo>
                  <a:lnTo>
                    <a:pt x="289" y="910"/>
                  </a:lnTo>
                  <a:lnTo>
                    <a:pt x="375" y="1104"/>
                  </a:lnTo>
                  <a:lnTo>
                    <a:pt x="476" y="1304"/>
                  </a:lnTo>
                  <a:lnTo>
                    <a:pt x="585" y="1499"/>
                  </a:lnTo>
                  <a:lnTo>
                    <a:pt x="650" y="1590"/>
                  </a:lnTo>
                  <a:lnTo>
                    <a:pt x="722" y="1675"/>
                  </a:lnTo>
                  <a:lnTo>
                    <a:pt x="801" y="1754"/>
                  </a:lnTo>
                  <a:lnTo>
                    <a:pt x="895" y="1826"/>
                  </a:lnTo>
                  <a:lnTo>
                    <a:pt x="1090" y="1966"/>
                  </a:lnTo>
                  <a:lnTo>
                    <a:pt x="1307" y="2093"/>
                  </a:lnTo>
                  <a:lnTo>
                    <a:pt x="1538" y="2209"/>
                  </a:lnTo>
                  <a:lnTo>
                    <a:pt x="1783" y="2318"/>
                  </a:lnTo>
                  <a:lnTo>
                    <a:pt x="2043" y="2409"/>
                  </a:lnTo>
                  <a:lnTo>
                    <a:pt x="2310" y="2500"/>
                  </a:lnTo>
                  <a:lnTo>
                    <a:pt x="2592" y="2591"/>
                  </a:lnTo>
                </a:path>
              </a:pathLst>
            </a:custGeom>
            <a:noFill/>
            <a:ln cap="rnd"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4"/>
            <p:cNvSpPr/>
            <p:nvPr/>
          </p:nvSpPr>
          <p:spPr>
            <a:xfrm>
              <a:off x="6539040" y="5335560"/>
              <a:ext cx="70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29"/>
          <p:cNvGrpSpPr/>
          <p:nvPr/>
        </p:nvGrpSpPr>
        <p:grpSpPr>
          <a:xfrm>
            <a:off x="1905120" y="2211480"/>
            <a:ext cx="3323520" cy="4095360"/>
            <a:chOff x="1905120" y="2211480"/>
            <a:chExt cx="3323520" cy="4095360"/>
          </a:xfrm>
        </p:grpSpPr>
        <p:sp>
          <p:nvSpPr>
            <p:cNvPr id="772" name="Oval 15"/>
            <p:cNvSpPr/>
            <p:nvPr/>
          </p:nvSpPr>
          <p:spPr>
            <a:xfrm>
              <a:off x="4114800" y="4495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0"/>
            <p:cNvSpPr/>
            <p:nvPr/>
          </p:nvSpPr>
          <p:spPr>
            <a:xfrm>
              <a:off x="1905120" y="43434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6"/>
            <p:cNvSpPr/>
            <p:nvPr/>
          </p:nvSpPr>
          <p:spPr>
            <a:xfrm flipH="1">
              <a:off x="2211120" y="4572000"/>
              <a:ext cx="1903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7"/>
            <p:cNvSpPr/>
            <p:nvPr/>
          </p:nvSpPr>
          <p:spPr>
            <a:xfrm>
              <a:off x="4191120" y="2211480"/>
              <a:ext cx="0" cy="3808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8"/>
            <p:cNvSpPr/>
            <p:nvPr/>
          </p:nvSpPr>
          <p:spPr>
            <a:xfrm>
              <a:off x="3962520" y="59436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9"/>
            <p:cNvSpPr/>
            <p:nvPr/>
          </p:nvSpPr>
          <p:spPr>
            <a:xfrm>
              <a:off x="4313160" y="557532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20"/>
            <p:cNvSpPr/>
            <p:nvPr/>
          </p:nvSpPr>
          <p:spPr>
            <a:xfrm>
              <a:off x="4405680" y="2759040"/>
              <a:ext cx="82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rm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21"/>
            <p:cNvSpPr/>
            <p:nvPr/>
          </p:nvSpPr>
          <p:spPr>
            <a:xfrm flipH="1">
              <a:off x="4268520" y="3201840"/>
              <a:ext cx="45540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26"/>
            <p:cNvSpPr/>
            <p:nvPr/>
          </p:nvSpPr>
          <p:spPr>
            <a:xfrm>
              <a:off x="2414520" y="3998880"/>
              <a:ext cx="64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s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7"/>
            <p:cNvSpPr/>
            <p:nvPr/>
          </p:nvSpPr>
          <p:spPr>
            <a:xfrm>
              <a:off x="2882880" y="4280040"/>
              <a:ext cx="14436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Opciones para reducir la emisión hasta </a:t>
            </a: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E*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s tasas sobre las emisione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Gravamen por cada unidad de emisiones de una empres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aneras de corregir los fallos de mercad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Group 32"/>
          <p:cNvGrpSpPr/>
          <p:nvPr/>
        </p:nvGrpSpPr>
        <p:grpSpPr>
          <a:xfrm>
            <a:off x="4191120" y="3354480"/>
            <a:ext cx="4817880" cy="2666880"/>
            <a:chOff x="4191120" y="3354480"/>
            <a:chExt cx="4817880" cy="2666880"/>
          </a:xfrm>
        </p:grpSpPr>
        <p:sp>
          <p:nvSpPr>
            <p:cNvPr id="789" name="Freeform 4"/>
            <p:cNvSpPr/>
            <p:nvPr/>
          </p:nvSpPr>
          <p:spPr>
            <a:xfrm>
              <a:off x="4191120" y="4572000"/>
              <a:ext cx="2896920" cy="1449360"/>
            </a:xfrm>
            <a:custGeom>
              <a:avLst/>
              <a:gdLst>
                <a:gd name="textAreaLeft" fmla="*/ 0 w 2896920"/>
                <a:gd name="textAreaRight" fmla="*/ 2897280 w 289692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825" h="913">
                  <a:moveTo>
                    <a:pt x="0" y="0"/>
                  </a:moveTo>
                  <a:lnTo>
                    <a:pt x="0" y="912"/>
                  </a:lnTo>
                  <a:lnTo>
                    <a:pt x="1824" y="912"/>
                  </a:lnTo>
                  <a:lnTo>
                    <a:pt x="912" y="576"/>
                  </a:lnTo>
                  <a:lnTo>
                    <a:pt x="528" y="384"/>
                  </a:lnTo>
                  <a:lnTo>
                    <a:pt x="271" y="220"/>
                  </a:lnTo>
                  <a:lnTo>
                    <a:pt x="0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25"/>
            <p:cNvSpPr/>
            <p:nvPr/>
          </p:nvSpPr>
          <p:spPr>
            <a:xfrm>
              <a:off x="4414680" y="5411880"/>
              <a:ext cx="1289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te tot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reducc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26"/>
            <p:cNvSpPr/>
            <p:nvPr/>
          </p:nvSpPr>
          <p:spPr>
            <a:xfrm>
              <a:off x="6349680" y="3354480"/>
              <a:ext cx="2659320" cy="819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l coste sería menor qu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 tasa, si no se redujera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s emisiones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30"/>
          <p:cNvGrpSpPr/>
          <p:nvPr/>
        </p:nvGrpSpPr>
        <p:grpSpPr>
          <a:xfrm>
            <a:off x="2209680" y="4572000"/>
            <a:ext cx="1981440" cy="1447920"/>
            <a:chOff x="2209680" y="4572000"/>
            <a:chExt cx="1981440" cy="1447920"/>
          </a:xfrm>
        </p:grpSpPr>
        <p:sp>
          <p:nvSpPr>
            <p:cNvPr id="793" name="Rectangle 5"/>
            <p:cNvSpPr/>
            <p:nvPr/>
          </p:nvSpPr>
          <p:spPr>
            <a:xfrm>
              <a:off x="2209680" y="4572000"/>
              <a:ext cx="1981440" cy="1447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24"/>
            <p:cNvSpPr/>
            <p:nvPr/>
          </p:nvSpPr>
          <p:spPr>
            <a:xfrm>
              <a:off x="2698560" y="5411880"/>
              <a:ext cx="128952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sa tot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reducc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Normas y tasas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798" name="Rectangle 8"/>
          <p:cNvSpPr/>
          <p:nvPr/>
        </p:nvSpPr>
        <p:spPr>
          <a:xfrm>
            <a:off x="3124080" y="6242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9"/>
          <p:cNvSpPr/>
          <p:nvPr/>
        </p:nvSpPr>
        <p:spPr>
          <a:xfrm>
            <a:off x="2209680" y="1709640"/>
            <a:ext cx="0" cy="429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10"/>
          <p:cNvSpPr/>
          <p:nvPr/>
        </p:nvSpPr>
        <p:spPr>
          <a:xfrm>
            <a:off x="2200320" y="6013440"/>
            <a:ext cx="5013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27"/>
          <p:cNvGrpSpPr/>
          <p:nvPr/>
        </p:nvGrpSpPr>
        <p:grpSpPr>
          <a:xfrm>
            <a:off x="2670120" y="1795320"/>
            <a:ext cx="4570200" cy="4227480"/>
            <a:chOff x="2670120" y="1795320"/>
            <a:chExt cx="4570200" cy="4227480"/>
          </a:xfrm>
        </p:grpSpPr>
        <p:sp>
          <p:nvSpPr>
            <p:cNvPr id="802" name="Freeform 6"/>
            <p:cNvSpPr/>
            <p:nvPr/>
          </p:nvSpPr>
          <p:spPr>
            <a:xfrm>
              <a:off x="3049560" y="1908000"/>
              <a:ext cx="4116240" cy="4114800"/>
            </a:xfrm>
            <a:custGeom>
              <a:avLst/>
              <a:gdLst>
                <a:gd name="textAreaLeft" fmla="*/ 0 w 4116240"/>
                <a:gd name="textAreaRight" fmla="*/ 4116600 w 4116240"/>
                <a:gd name="textAreaTop" fmla="*/ 0 h 4114800"/>
                <a:gd name="textAreaBottom" fmla="*/ 4115160 h 4114800"/>
              </a:gdLst>
              <a:ahLst/>
              <a:rect l="textAreaLeft" t="textAreaTop" r="textAreaRight" b="textAreaBottom"/>
              <a:pathLst>
                <a:path w="2593" h="2592">
                  <a:moveTo>
                    <a:pt x="0" y="0"/>
                  </a:moveTo>
                  <a:lnTo>
                    <a:pt x="7" y="18"/>
                  </a:lnTo>
                  <a:lnTo>
                    <a:pt x="7" y="48"/>
                  </a:lnTo>
                  <a:lnTo>
                    <a:pt x="14" y="72"/>
                  </a:lnTo>
                  <a:lnTo>
                    <a:pt x="21" y="97"/>
                  </a:lnTo>
                  <a:lnTo>
                    <a:pt x="36" y="139"/>
                  </a:lnTo>
                  <a:lnTo>
                    <a:pt x="50" y="188"/>
                  </a:lnTo>
                  <a:lnTo>
                    <a:pt x="72" y="255"/>
                  </a:lnTo>
                  <a:lnTo>
                    <a:pt x="94" y="327"/>
                  </a:lnTo>
                  <a:lnTo>
                    <a:pt x="115" y="418"/>
                  </a:lnTo>
                  <a:lnTo>
                    <a:pt x="144" y="515"/>
                  </a:lnTo>
                  <a:lnTo>
                    <a:pt x="209" y="716"/>
                  </a:lnTo>
                  <a:lnTo>
                    <a:pt x="252" y="813"/>
                  </a:lnTo>
                  <a:lnTo>
                    <a:pt x="289" y="910"/>
                  </a:lnTo>
                  <a:lnTo>
                    <a:pt x="375" y="1104"/>
                  </a:lnTo>
                  <a:lnTo>
                    <a:pt x="476" y="1304"/>
                  </a:lnTo>
                  <a:lnTo>
                    <a:pt x="585" y="1499"/>
                  </a:lnTo>
                  <a:lnTo>
                    <a:pt x="650" y="1590"/>
                  </a:lnTo>
                  <a:lnTo>
                    <a:pt x="722" y="1675"/>
                  </a:lnTo>
                  <a:lnTo>
                    <a:pt x="801" y="1754"/>
                  </a:lnTo>
                  <a:lnTo>
                    <a:pt x="895" y="1826"/>
                  </a:lnTo>
                  <a:lnTo>
                    <a:pt x="1090" y="1966"/>
                  </a:lnTo>
                  <a:lnTo>
                    <a:pt x="1307" y="2093"/>
                  </a:lnTo>
                  <a:lnTo>
                    <a:pt x="1538" y="2209"/>
                  </a:lnTo>
                  <a:lnTo>
                    <a:pt x="1783" y="2318"/>
                  </a:lnTo>
                  <a:lnTo>
                    <a:pt x="2043" y="2409"/>
                  </a:lnTo>
                  <a:lnTo>
                    <a:pt x="2310" y="2500"/>
                  </a:lnTo>
                  <a:lnTo>
                    <a:pt x="2592" y="2591"/>
                  </a:lnTo>
                </a:path>
              </a:pathLst>
            </a:custGeom>
            <a:noFill/>
            <a:ln cap="rnd"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"/>
            <p:cNvSpPr/>
            <p:nvPr/>
          </p:nvSpPr>
          <p:spPr>
            <a:xfrm>
              <a:off x="2670120" y="2208240"/>
              <a:ext cx="4114800" cy="2963880"/>
            </a:xfrm>
            <a:custGeom>
              <a:avLst/>
              <a:gdLst>
                <a:gd name="textAreaLeft" fmla="*/ 0 w 4114800"/>
                <a:gd name="textAreaRight" fmla="*/ 4115160 w 4114800"/>
                <a:gd name="textAreaTop" fmla="*/ 0 h 2963880"/>
                <a:gd name="textAreaBottom" fmla="*/ 2964240 h 2963880"/>
              </a:gdLst>
              <a:ahLst/>
              <a:rect l="textAreaLeft" t="textAreaTop" r="textAreaRight" b="textAreaBottom"/>
              <a:pathLst>
                <a:path w="2592" h="1867">
                  <a:moveTo>
                    <a:pt x="0" y="1866"/>
                  </a:moveTo>
                  <a:lnTo>
                    <a:pt x="41" y="1856"/>
                  </a:lnTo>
                  <a:lnTo>
                    <a:pt x="96" y="1840"/>
                  </a:lnTo>
                  <a:lnTo>
                    <a:pt x="137" y="1830"/>
                  </a:lnTo>
                  <a:lnTo>
                    <a:pt x="178" y="1814"/>
                  </a:lnTo>
                  <a:lnTo>
                    <a:pt x="225" y="1798"/>
                  </a:lnTo>
                  <a:lnTo>
                    <a:pt x="287" y="1777"/>
                  </a:lnTo>
                  <a:lnTo>
                    <a:pt x="355" y="1751"/>
                  </a:lnTo>
                  <a:lnTo>
                    <a:pt x="437" y="1720"/>
                  </a:lnTo>
                  <a:lnTo>
                    <a:pt x="519" y="1684"/>
                  </a:lnTo>
                  <a:lnTo>
                    <a:pt x="615" y="1647"/>
                  </a:lnTo>
                  <a:lnTo>
                    <a:pt x="813" y="1559"/>
                  </a:lnTo>
                  <a:lnTo>
                    <a:pt x="1005" y="1465"/>
                  </a:lnTo>
                  <a:lnTo>
                    <a:pt x="1101" y="1413"/>
                  </a:lnTo>
                  <a:lnTo>
                    <a:pt x="1203" y="1355"/>
                  </a:lnTo>
                  <a:lnTo>
                    <a:pt x="1415" y="1235"/>
                  </a:lnTo>
                  <a:lnTo>
                    <a:pt x="1613" y="1110"/>
                  </a:lnTo>
                  <a:lnTo>
                    <a:pt x="1702" y="1048"/>
                  </a:lnTo>
                  <a:lnTo>
                    <a:pt x="1784" y="985"/>
                  </a:lnTo>
                  <a:lnTo>
                    <a:pt x="1859" y="928"/>
                  </a:lnTo>
                  <a:lnTo>
                    <a:pt x="1921" y="876"/>
                  </a:lnTo>
                  <a:lnTo>
                    <a:pt x="2037" y="772"/>
                  </a:lnTo>
                  <a:lnTo>
                    <a:pt x="2140" y="662"/>
                  </a:lnTo>
                  <a:lnTo>
                    <a:pt x="2242" y="548"/>
                  </a:lnTo>
                  <a:lnTo>
                    <a:pt x="2290" y="480"/>
                  </a:lnTo>
                  <a:lnTo>
                    <a:pt x="2338" y="407"/>
                  </a:lnTo>
                  <a:lnTo>
                    <a:pt x="2441" y="256"/>
                  </a:lnTo>
                  <a:lnTo>
                    <a:pt x="2482" y="178"/>
                  </a:lnTo>
                  <a:lnTo>
                    <a:pt x="2523" y="110"/>
                  </a:lnTo>
                  <a:lnTo>
                    <a:pt x="2557" y="53"/>
                  </a:lnTo>
                  <a:lnTo>
                    <a:pt x="2591" y="0"/>
                  </a:lnTo>
                </a:path>
              </a:pathLst>
            </a:custGeom>
            <a:noFill/>
            <a:ln cap="rnd" w="507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4"/>
            <p:cNvSpPr/>
            <p:nvPr/>
          </p:nvSpPr>
          <p:spPr>
            <a:xfrm>
              <a:off x="6539040" y="1795320"/>
              <a:ext cx="689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S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5"/>
            <p:cNvSpPr/>
            <p:nvPr/>
          </p:nvSpPr>
          <p:spPr>
            <a:xfrm>
              <a:off x="6539040" y="5335560"/>
              <a:ext cx="70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29"/>
          <p:cNvGrpSpPr/>
          <p:nvPr/>
        </p:nvGrpSpPr>
        <p:grpSpPr>
          <a:xfrm>
            <a:off x="1905120" y="3902040"/>
            <a:ext cx="4190760" cy="2404800"/>
            <a:chOff x="1905120" y="3902040"/>
            <a:chExt cx="4190760" cy="2404800"/>
          </a:xfrm>
        </p:grpSpPr>
        <p:sp>
          <p:nvSpPr>
            <p:cNvPr id="807" name="Rectangle 16"/>
            <p:cNvSpPr/>
            <p:nvPr/>
          </p:nvSpPr>
          <p:spPr>
            <a:xfrm>
              <a:off x="1905120" y="43434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18"/>
            <p:cNvSpPr/>
            <p:nvPr/>
          </p:nvSpPr>
          <p:spPr>
            <a:xfrm>
              <a:off x="4191120" y="4573440"/>
              <a:ext cx="0" cy="14464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9"/>
            <p:cNvSpPr/>
            <p:nvPr/>
          </p:nvSpPr>
          <p:spPr>
            <a:xfrm>
              <a:off x="3962520" y="59436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20"/>
            <p:cNvSpPr/>
            <p:nvPr/>
          </p:nvSpPr>
          <p:spPr>
            <a:xfrm>
              <a:off x="3825720" y="564984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7"/>
            <p:cNvSpPr/>
            <p:nvPr/>
          </p:nvSpPr>
          <p:spPr>
            <a:xfrm flipH="1">
              <a:off x="2211480" y="4572000"/>
              <a:ext cx="38844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21"/>
            <p:cNvSpPr/>
            <p:nvPr/>
          </p:nvSpPr>
          <p:spPr>
            <a:xfrm>
              <a:off x="2652840" y="3902040"/>
              <a:ext cx="64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s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2"/>
            <p:cNvSpPr/>
            <p:nvPr/>
          </p:nvSpPr>
          <p:spPr>
            <a:xfrm>
              <a:off x="3125880" y="419256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23"/>
            <p:cNvSpPr/>
            <p:nvPr/>
          </p:nvSpPr>
          <p:spPr>
            <a:xfrm>
              <a:off x="4114800" y="4495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Rectangle 33"/>
          <p:cNvSpPr/>
          <p:nvPr/>
        </p:nvSpPr>
        <p:spPr>
          <a:xfrm>
            <a:off x="7082640" y="6000840"/>
            <a:ext cx="1787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vel de emision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4"/>
          <p:cNvSpPr/>
          <p:nvPr/>
        </p:nvSpPr>
        <p:spPr>
          <a:xfrm>
            <a:off x="952200" y="1371600"/>
            <a:ext cx="1310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óla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unidad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emision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¿Normas o tasas?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uposicione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s autoridades tienen información asimétric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ebido a los costes administrativos, debe cobrarse la misma tasa o establecerse la misma norma para todas las empresa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aneras de corregir los fallos de mercad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59"/>
          <p:cNvGrpSpPr/>
          <p:nvPr/>
        </p:nvGrpSpPr>
        <p:grpSpPr>
          <a:xfrm>
            <a:off x="2406960" y="4038480"/>
            <a:ext cx="5859360" cy="1982880"/>
            <a:chOff x="2406960" y="4038480"/>
            <a:chExt cx="5859360" cy="1982880"/>
          </a:xfrm>
        </p:grpSpPr>
        <p:sp>
          <p:nvSpPr>
            <p:cNvPr id="824" name="Freeform 4"/>
            <p:cNvSpPr/>
            <p:nvPr/>
          </p:nvSpPr>
          <p:spPr>
            <a:xfrm>
              <a:off x="4648320" y="4038480"/>
              <a:ext cx="306360" cy="198288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1982880"/>
                <a:gd name="textAreaBottom" fmla="*/ 1983240 h 1982880"/>
              </a:gdLst>
              <a:ahLst/>
              <a:rect l="textAreaLeft" t="textAreaTop" r="textAreaRight" b="textAreaBottom"/>
              <a:pathLst>
                <a:path w="193" h="1249">
                  <a:moveTo>
                    <a:pt x="0" y="0"/>
                  </a:moveTo>
                  <a:lnTo>
                    <a:pt x="0" y="1248"/>
                  </a:lnTo>
                  <a:lnTo>
                    <a:pt x="192" y="1248"/>
                  </a:lnTo>
                  <a:lnTo>
                    <a:pt x="192" y="238"/>
                  </a:lnTo>
                  <a:lnTo>
                    <a:pt x="0" y="0"/>
                  </a:lnTo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"/>
            <p:cNvSpPr/>
            <p:nvPr/>
          </p:nvSpPr>
          <p:spPr>
            <a:xfrm>
              <a:off x="4343400" y="4419720"/>
              <a:ext cx="306360" cy="16016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1601640"/>
                <a:gd name="textAreaBottom" fmla="*/ 1602000 h 1601640"/>
              </a:gdLst>
              <a:ahLst/>
              <a:rect l="textAreaLeft" t="textAreaTop" r="textAreaRight" b="textAreaBottom"/>
              <a:pathLst>
                <a:path w="193" h="1009">
                  <a:moveTo>
                    <a:pt x="0" y="0"/>
                  </a:moveTo>
                  <a:lnTo>
                    <a:pt x="0" y="1008"/>
                  </a:lnTo>
                  <a:lnTo>
                    <a:pt x="192" y="1008"/>
                  </a:lnTo>
                  <a:lnTo>
                    <a:pt x="192" y="144"/>
                  </a:lnTo>
                  <a:lnTo>
                    <a:pt x="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49"/>
            <p:cNvSpPr/>
            <p:nvPr/>
          </p:nvSpPr>
          <p:spPr>
            <a:xfrm>
              <a:off x="2406960" y="4878360"/>
              <a:ext cx="1659600" cy="6364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minución de lo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es de reducción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 la empresa 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0"/>
            <p:cNvSpPr/>
            <p:nvPr/>
          </p:nvSpPr>
          <p:spPr>
            <a:xfrm flipV="1">
              <a:off x="4116240" y="5259240"/>
              <a:ext cx="379440" cy="7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51"/>
            <p:cNvSpPr/>
            <p:nvPr/>
          </p:nvSpPr>
          <p:spPr>
            <a:xfrm>
              <a:off x="6149520" y="4344840"/>
              <a:ext cx="2116800" cy="453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mento de los costes de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ducción de la empresa 1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52"/>
            <p:cNvSpPr/>
            <p:nvPr/>
          </p:nvSpPr>
          <p:spPr>
            <a:xfrm flipH="1">
              <a:off x="4802040" y="4726080"/>
              <a:ext cx="1446480" cy="68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56"/>
          <p:cNvGrpSpPr/>
          <p:nvPr/>
        </p:nvGrpSpPr>
        <p:grpSpPr>
          <a:xfrm>
            <a:off x="2293200" y="1719360"/>
            <a:ext cx="5253840" cy="4303440"/>
            <a:chOff x="2293200" y="1719360"/>
            <a:chExt cx="5253840" cy="4303440"/>
          </a:xfrm>
        </p:grpSpPr>
        <p:sp>
          <p:nvSpPr>
            <p:cNvPr id="831" name="Freeform 6"/>
            <p:cNvSpPr/>
            <p:nvPr/>
          </p:nvSpPr>
          <p:spPr>
            <a:xfrm>
              <a:off x="3429000" y="2206800"/>
              <a:ext cx="4118040" cy="3816000"/>
            </a:xfrm>
            <a:custGeom>
              <a:avLst/>
              <a:gdLst>
                <a:gd name="textAreaLeft" fmla="*/ 0 w 4118040"/>
                <a:gd name="textAreaRight" fmla="*/ 4118400 w 4118040"/>
                <a:gd name="textAreaTop" fmla="*/ 0 h 3816000"/>
                <a:gd name="textAreaBottom" fmla="*/ 3816360 h 3816000"/>
              </a:gdLst>
              <a:ahLst/>
              <a:rect l="textAreaLeft" t="textAreaTop" r="textAreaRight" b="textAreaBottom"/>
              <a:pathLst>
                <a:path w="2594" h="2404">
                  <a:moveTo>
                    <a:pt x="0" y="0"/>
                  </a:moveTo>
                  <a:lnTo>
                    <a:pt x="121" y="212"/>
                  </a:lnTo>
                  <a:lnTo>
                    <a:pt x="251" y="419"/>
                  </a:lnTo>
                  <a:lnTo>
                    <a:pt x="365" y="607"/>
                  </a:lnTo>
                  <a:lnTo>
                    <a:pt x="471" y="783"/>
                  </a:lnTo>
                  <a:lnTo>
                    <a:pt x="578" y="940"/>
                  </a:lnTo>
                  <a:lnTo>
                    <a:pt x="684" y="1086"/>
                  </a:lnTo>
                  <a:lnTo>
                    <a:pt x="737" y="1147"/>
                  </a:lnTo>
                  <a:lnTo>
                    <a:pt x="783" y="1207"/>
                  </a:lnTo>
                  <a:lnTo>
                    <a:pt x="829" y="1262"/>
                  </a:lnTo>
                  <a:lnTo>
                    <a:pt x="867" y="1305"/>
                  </a:lnTo>
                  <a:lnTo>
                    <a:pt x="897" y="1341"/>
                  </a:lnTo>
                  <a:lnTo>
                    <a:pt x="912" y="1359"/>
                  </a:lnTo>
                  <a:lnTo>
                    <a:pt x="928" y="1377"/>
                  </a:lnTo>
                  <a:lnTo>
                    <a:pt x="935" y="1383"/>
                  </a:lnTo>
                  <a:lnTo>
                    <a:pt x="943" y="1390"/>
                  </a:lnTo>
                  <a:lnTo>
                    <a:pt x="966" y="1408"/>
                  </a:lnTo>
                  <a:lnTo>
                    <a:pt x="988" y="1426"/>
                  </a:lnTo>
                  <a:lnTo>
                    <a:pt x="1034" y="1462"/>
                  </a:lnTo>
                  <a:lnTo>
                    <a:pt x="1095" y="1511"/>
                  </a:lnTo>
                  <a:lnTo>
                    <a:pt x="1156" y="1572"/>
                  </a:lnTo>
                  <a:lnTo>
                    <a:pt x="1232" y="1638"/>
                  </a:lnTo>
                  <a:lnTo>
                    <a:pt x="1315" y="1705"/>
                  </a:lnTo>
                  <a:lnTo>
                    <a:pt x="1498" y="1851"/>
                  </a:lnTo>
                  <a:lnTo>
                    <a:pt x="1589" y="1924"/>
                  </a:lnTo>
                  <a:lnTo>
                    <a:pt x="1688" y="1984"/>
                  </a:lnTo>
                  <a:lnTo>
                    <a:pt x="1893" y="2100"/>
                  </a:lnTo>
                  <a:lnTo>
                    <a:pt x="2114" y="2203"/>
                  </a:lnTo>
                  <a:lnTo>
                    <a:pt x="2350" y="2306"/>
                  </a:lnTo>
                  <a:lnTo>
                    <a:pt x="2593" y="2403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"/>
            <p:cNvSpPr/>
            <p:nvPr/>
          </p:nvSpPr>
          <p:spPr>
            <a:xfrm>
              <a:off x="2747880" y="2514600"/>
              <a:ext cx="4722840" cy="3508200"/>
            </a:xfrm>
            <a:custGeom>
              <a:avLst/>
              <a:gdLst>
                <a:gd name="textAreaLeft" fmla="*/ 0 w 4722840"/>
                <a:gd name="textAreaRight" fmla="*/ 4723200 w 4722840"/>
                <a:gd name="textAreaTop" fmla="*/ 0 h 3508200"/>
                <a:gd name="textAreaBottom" fmla="*/ 3508560 h 3508200"/>
              </a:gdLst>
              <a:ahLst/>
              <a:rect l="textAreaLeft" t="textAreaTop" r="textAreaRight" b="textAreaBottom"/>
              <a:pathLst>
                <a:path w="2975" h="2210">
                  <a:moveTo>
                    <a:pt x="0" y="0"/>
                  </a:moveTo>
                  <a:lnTo>
                    <a:pt x="143" y="194"/>
                  </a:lnTo>
                  <a:lnTo>
                    <a:pt x="279" y="382"/>
                  </a:lnTo>
                  <a:lnTo>
                    <a:pt x="414" y="564"/>
                  </a:lnTo>
                  <a:lnTo>
                    <a:pt x="542" y="722"/>
                  </a:lnTo>
                  <a:lnTo>
                    <a:pt x="670" y="868"/>
                  </a:lnTo>
                  <a:lnTo>
                    <a:pt x="791" y="1001"/>
                  </a:lnTo>
                  <a:lnTo>
                    <a:pt x="896" y="1111"/>
                  </a:lnTo>
                  <a:lnTo>
                    <a:pt x="941" y="1159"/>
                  </a:lnTo>
                  <a:lnTo>
                    <a:pt x="987" y="1202"/>
                  </a:lnTo>
                  <a:lnTo>
                    <a:pt x="1024" y="1232"/>
                  </a:lnTo>
                  <a:lnTo>
                    <a:pt x="1047" y="1250"/>
                  </a:lnTo>
                  <a:lnTo>
                    <a:pt x="1062" y="1262"/>
                  </a:lnTo>
                  <a:lnTo>
                    <a:pt x="1069" y="1274"/>
                  </a:lnTo>
                  <a:lnTo>
                    <a:pt x="1084" y="1280"/>
                  </a:lnTo>
                  <a:lnTo>
                    <a:pt x="1107" y="1293"/>
                  </a:lnTo>
                  <a:lnTo>
                    <a:pt x="1137" y="1311"/>
                  </a:lnTo>
                  <a:lnTo>
                    <a:pt x="1190" y="1341"/>
                  </a:lnTo>
                  <a:lnTo>
                    <a:pt x="1250" y="1390"/>
                  </a:lnTo>
                  <a:lnTo>
                    <a:pt x="1325" y="1444"/>
                  </a:lnTo>
                  <a:lnTo>
                    <a:pt x="1416" y="1505"/>
                  </a:lnTo>
                  <a:lnTo>
                    <a:pt x="1506" y="1572"/>
                  </a:lnTo>
                  <a:lnTo>
                    <a:pt x="1709" y="1705"/>
                  </a:lnTo>
                  <a:lnTo>
                    <a:pt x="1815" y="1766"/>
                  </a:lnTo>
                  <a:lnTo>
                    <a:pt x="1928" y="1827"/>
                  </a:lnTo>
                  <a:lnTo>
                    <a:pt x="2169" y="1930"/>
                  </a:lnTo>
                  <a:lnTo>
                    <a:pt x="2424" y="2027"/>
                  </a:lnTo>
                  <a:lnTo>
                    <a:pt x="2695" y="2118"/>
                  </a:lnTo>
                  <a:lnTo>
                    <a:pt x="2974" y="2209"/>
                  </a:lnTo>
                </a:path>
              </a:pathLst>
            </a:custGeom>
            <a:noFill/>
            <a:ln cap="rnd"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41"/>
            <p:cNvSpPr/>
            <p:nvPr/>
          </p:nvSpPr>
          <p:spPr>
            <a:xfrm>
              <a:off x="3344040" y="1719360"/>
              <a:ext cx="7743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R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42"/>
            <p:cNvSpPr/>
            <p:nvPr/>
          </p:nvSpPr>
          <p:spPr>
            <a:xfrm>
              <a:off x="2293200" y="1982880"/>
              <a:ext cx="7743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R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Los argumentos a favor de las tasas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38" name="Rectangle 9"/>
          <p:cNvSpPr/>
          <p:nvPr/>
        </p:nvSpPr>
        <p:spPr>
          <a:xfrm>
            <a:off x="3124080" y="6242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0"/>
          <p:cNvSpPr/>
          <p:nvPr/>
        </p:nvSpPr>
        <p:spPr>
          <a:xfrm>
            <a:off x="2209680" y="1709640"/>
            <a:ext cx="0" cy="429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1"/>
          <p:cNvSpPr/>
          <p:nvPr/>
        </p:nvSpPr>
        <p:spPr>
          <a:xfrm>
            <a:off x="2225520" y="6013440"/>
            <a:ext cx="5470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2"/>
          <p:cNvSpPr/>
          <p:nvPr/>
        </p:nvSpPr>
        <p:spPr>
          <a:xfrm>
            <a:off x="7710120" y="5711760"/>
            <a:ext cx="1172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vel de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is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3"/>
          <p:cNvSpPr/>
          <p:nvPr/>
        </p:nvSpPr>
        <p:spPr>
          <a:xfrm>
            <a:off x="1904760" y="47750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4"/>
          <p:cNvSpPr/>
          <p:nvPr/>
        </p:nvSpPr>
        <p:spPr>
          <a:xfrm>
            <a:off x="1904760" y="3606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5"/>
          <p:cNvSpPr/>
          <p:nvPr/>
        </p:nvSpPr>
        <p:spPr>
          <a:xfrm>
            <a:off x="1904760" y="243828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6"/>
          <p:cNvSpPr/>
          <p:nvPr/>
        </p:nvSpPr>
        <p:spPr>
          <a:xfrm>
            <a:off x="792360" y="1447920"/>
            <a:ext cx="1464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ólares p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emis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7"/>
          <p:cNvSpPr/>
          <p:nvPr/>
        </p:nvSpPr>
        <p:spPr>
          <a:xfrm>
            <a:off x="205740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8"/>
          <p:cNvSpPr/>
          <p:nvPr/>
        </p:nvSpPr>
        <p:spPr>
          <a:xfrm>
            <a:off x="240192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19"/>
          <p:cNvSpPr/>
          <p:nvPr/>
        </p:nvSpPr>
        <p:spPr>
          <a:xfrm>
            <a:off x="274644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0"/>
          <p:cNvSpPr/>
          <p:nvPr/>
        </p:nvSpPr>
        <p:spPr>
          <a:xfrm>
            <a:off x="309096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1"/>
          <p:cNvSpPr/>
          <p:nvPr/>
        </p:nvSpPr>
        <p:spPr>
          <a:xfrm>
            <a:off x="343512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2"/>
          <p:cNvSpPr/>
          <p:nvPr/>
        </p:nvSpPr>
        <p:spPr>
          <a:xfrm>
            <a:off x="377964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23"/>
          <p:cNvSpPr/>
          <p:nvPr/>
        </p:nvSpPr>
        <p:spPr>
          <a:xfrm>
            <a:off x="412416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24"/>
          <p:cNvSpPr/>
          <p:nvPr/>
        </p:nvSpPr>
        <p:spPr>
          <a:xfrm>
            <a:off x="447048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25"/>
          <p:cNvSpPr/>
          <p:nvPr/>
        </p:nvSpPr>
        <p:spPr>
          <a:xfrm>
            <a:off x="481464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6"/>
          <p:cNvSpPr/>
          <p:nvPr/>
        </p:nvSpPr>
        <p:spPr>
          <a:xfrm>
            <a:off x="515916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7"/>
          <p:cNvSpPr/>
          <p:nvPr/>
        </p:nvSpPr>
        <p:spPr>
          <a:xfrm>
            <a:off x="5503680" y="59436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8"/>
          <p:cNvSpPr/>
          <p:nvPr/>
        </p:nvSpPr>
        <p:spPr>
          <a:xfrm>
            <a:off x="5974920" y="59436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9"/>
          <p:cNvSpPr/>
          <p:nvPr/>
        </p:nvSpPr>
        <p:spPr>
          <a:xfrm>
            <a:off x="6446520" y="59436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30"/>
          <p:cNvSpPr/>
          <p:nvPr/>
        </p:nvSpPr>
        <p:spPr>
          <a:xfrm>
            <a:off x="6918480" y="5956200"/>
            <a:ext cx="434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31"/>
          <p:cNvSpPr/>
          <p:nvPr/>
        </p:nvSpPr>
        <p:spPr>
          <a:xfrm>
            <a:off x="1904760" y="53593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32"/>
          <p:cNvSpPr/>
          <p:nvPr/>
        </p:nvSpPr>
        <p:spPr>
          <a:xfrm>
            <a:off x="1904760" y="419112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3"/>
          <p:cNvSpPr/>
          <p:nvPr/>
        </p:nvSpPr>
        <p:spPr>
          <a:xfrm>
            <a:off x="1904760" y="30225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34"/>
          <p:cNvSpPr/>
          <p:nvPr/>
        </p:nvSpPr>
        <p:spPr>
          <a:xfrm>
            <a:off x="7391520" y="5956200"/>
            <a:ext cx="434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53"/>
          <p:cNvSpPr/>
          <p:nvPr/>
        </p:nvSpPr>
        <p:spPr>
          <a:xfrm>
            <a:off x="63000" y="2725560"/>
            <a:ext cx="2982600" cy="1095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s costes de reducció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erimentan una disminución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unidades para la empresa 1 y d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para la empresa 2, por lo q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CM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3$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Group 62"/>
          <p:cNvGrpSpPr/>
          <p:nvPr/>
        </p:nvGrpSpPr>
        <p:grpSpPr>
          <a:xfrm>
            <a:off x="1600200" y="1173240"/>
            <a:ext cx="5232240" cy="4846680"/>
            <a:chOff x="1600200" y="1173240"/>
            <a:chExt cx="5232240" cy="4846680"/>
          </a:xfrm>
        </p:grpSpPr>
        <p:sp>
          <p:nvSpPr>
            <p:cNvPr id="866" name="Line 40"/>
            <p:cNvSpPr/>
            <p:nvPr/>
          </p:nvSpPr>
          <p:spPr>
            <a:xfrm>
              <a:off x="2211480" y="4648320"/>
              <a:ext cx="2360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36"/>
            <p:cNvSpPr/>
            <p:nvPr/>
          </p:nvSpPr>
          <p:spPr>
            <a:xfrm>
              <a:off x="1600200" y="3809880"/>
              <a:ext cx="576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,7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39"/>
            <p:cNvSpPr/>
            <p:nvPr/>
          </p:nvSpPr>
          <p:spPr>
            <a:xfrm>
              <a:off x="1600200" y="4495680"/>
              <a:ext cx="576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,5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44"/>
            <p:cNvSpPr/>
            <p:nvPr/>
          </p:nvSpPr>
          <p:spPr>
            <a:xfrm>
              <a:off x="2211480" y="4038480"/>
              <a:ext cx="2360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45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47"/>
            <p:cNvSpPr/>
            <p:nvPr/>
          </p:nvSpPr>
          <p:spPr>
            <a:xfrm>
              <a:off x="4572000" y="4572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48"/>
            <p:cNvSpPr/>
            <p:nvPr/>
          </p:nvSpPr>
          <p:spPr>
            <a:xfrm flipV="1">
              <a:off x="4648320" y="4176720"/>
              <a:ext cx="0" cy="18432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54"/>
            <p:cNvSpPr/>
            <p:nvPr/>
          </p:nvSpPr>
          <p:spPr>
            <a:xfrm>
              <a:off x="4049640" y="1173240"/>
              <a:ext cx="2782800" cy="10263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sta gráfica muestra el efecto de la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ducción de la norma a 7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idades en las dos empresas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 es eficiente, porqu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&lt; CM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Group 60"/>
          <p:cNvGrpSpPr/>
          <p:nvPr/>
        </p:nvGrpSpPr>
        <p:grpSpPr>
          <a:xfrm>
            <a:off x="2211480" y="2349360"/>
            <a:ext cx="6652800" cy="3670560"/>
            <a:chOff x="2211480" y="2349360"/>
            <a:chExt cx="6652800" cy="3670560"/>
          </a:xfrm>
        </p:grpSpPr>
        <p:sp>
          <p:nvSpPr>
            <p:cNvPr id="875" name="Line 35"/>
            <p:cNvSpPr/>
            <p:nvPr/>
          </p:nvSpPr>
          <p:spPr>
            <a:xfrm>
              <a:off x="2211480" y="4419720"/>
              <a:ext cx="365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37"/>
            <p:cNvSpPr/>
            <p:nvPr/>
          </p:nvSpPr>
          <p:spPr>
            <a:xfrm flipV="1">
              <a:off x="4952880" y="4420800"/>
              <a:ext cx="0" cy="1598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38"/>
            <p:cNvSpPr/>
            <p:nvPr/>
          </p:nvSpPr>
          <p:spPr>
            <a:xfrm>
              <a:off x="4876920" y="4343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43"/>
            <p:cNvSpPr/>
            <p:nvPr/>
          </p:nvSpPr>
          <p:spPr>
            <a:xfrm flipV="1">
              <a:off x="4343400" y="3659040"/>
              <a:ext cx="0" cy="23608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55"/>
            <p:cNvSpPr/>
            <p:nvPr/>
          </p:nvSpPr>
          <p:spPr>
            <a:xfrm>
              <a:off x="5528160" y="2349360"/>
              <a:ext cx="3336120" cy="10263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 se impusiese una tasa de 3 dólares, las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isiones de la empresa 1 bajarían d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 a 8 unidades. Las emisiones de l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resa 2 disminuirían de 14 a 6 unidades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= CMR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: solución eficiente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Ventajas de las tas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uando deben establecerse las mismas normas para todas las empresas, las tasas consiguen las mismas reducciones de las emisiones con un coste menor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s tasas desarrollan incentivos para instalar nuevo equipo que les permita reducir aún más las emisione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aneras de corregir los fallos de mercad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sbozo del capítul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externalidade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Maneras de corregir los fallos del mercado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externalidades y los derechos de propiedad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recursos de propiedad común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61"/>
          <p:cNvGrpSpPr/>
          <p:nvPr/>
        </p:nvGrpSpPr>
        <p:grpSpPr>
          <a:xfrm>
            <a:off x="4130280" y="1616400"/>
            <a:ext cx="4484160" cy="2634480"/>
            <a:chOff x="4130280" y="1616400"/>
            <a:chExt cx="4484160" cy="2634480"/>
          </a:xfrm>
        </p:grpSpPr>
        <p:sp>
          <p:nvSpPr>
            <p:cNvPr id="887" name="AutoShape 53"/>
            <p:cNvSpPr/>
            <p:nvPr/>
          </p:nvSpPr>
          <p:spPr>
            <a:xfrm rot="1020000">
              <a:off x="4481280" y="1674360"/>
              <a:ext cx="774720" cy="2517840"/>
            </a:xfrm>
            <a:prstGeom prst="rtTriangl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54"/>
            <p:cNvSpPr/>
            <p:nvPr/>
          </p:nvSpPr>
          <p:spPr>
            <a:xfrm>
              <a:off x="6096600" y="2649600"/>
              <a:ext cx="2517840" cy="941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BC representa el aument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los costes social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nos el ahorro 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tes de reducción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Group 55"/>
          <p:cNvGrpSpPr/>
          <p:nvPr/>
        </p:nvGrpSpPr>
        <p:grpSpPr>
          <a:xfrm>
            <a:off x="2668680" y="1373040"/>
            <a:ext cx="4589640" cy="4189680"/>
            <a:chOff x="2668680" y="1373040"/>
            <a:chExt cx="4589640" cy="4189680"/>
          </a:xfrm>
        </p:grpSpPr>
        <p:sp>
          <p:nvSpPr>
            <p:cNvPr id="890" name="Line 5"/>
            <p:cNvSpPr/>
            <p:nvPr/>
          </p:nvSpPr>
          <p:spPr>
            <a:xfrm>
              <a:off x="2668680" y="3583080"/>
              <a:ext cx="3655800" cy="114120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6"/>
            <p:cNvSpPr/>
            <p:nvPr/>
          </p:nvSpPr>
          <p:spPr>
            <a:xfrm flipV="1">
              <a:off x="3583080" y="1373040"/>
              <a:ext cx="1369800" cy="418968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37"/>
            <p:cNvSpPr/>
            <p:nvPr/>
          </p:nvSpPr>
          <p:spPr>
            <a:xfrm>
              <a:off x="3487320" y="1868400"/>
              <a:ext cx="1231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te soci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gin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38"/>
            <p:cNvSpPr/>
            <p:nvPr/>
          </p:nvSpPr>
          <p:spPr>
            <a:xfrm>
              <a:off x="4116240" y="2440080"/>
              <a:ext cx="37944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39"/>
            <p:cNvSpPr/>
            <p:nvPr/>
          </p:nvSpPr>
          <p:spPr>
            <a:xfrm>
              <a:off x="5789160" y="4878360"/>
              <a:ext cx="14691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te margin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reducc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40"/>
            <p:cNvSpPr/>
            <p:nvPr/>
          </p:nvSpPr>
          <p:spPr>
            <a:xfrm flipH="1" flipV="1">
              <a:off x="5716440" y="4573440"/>
              <a:ext cx="379440" cy="379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Los argumentos a favor de las normas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99" name="Rectangle 8"/>
          <p:cNvSpPr/>
          <p:nvPr/>
        </p:nvSpPr>
        <p:spPr>
          <a:xfrm>
            <a:off x="3124080" y="6242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9"/>
          <p:cNvSpPr/>
          <p:nvPr/>
        </p:nvSpPr>
        <p:spPr>
          <a:xfrm>
            <a:off x="2209680" y="1709640"/>
            <a:ext cx="0" cy="429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10"/>
          <p:cNvSpPr/>
          <p:nvPr/>
        </p:nvSpPr>
        <p:spPr>
          <a:xfrm>
            <a:off x="2200320" y="6000840"/>
            <a:ext cx="440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1"/>
          <p:cNvSpPr/>
          <p:nvPr/>
        </p:nvSpPr>
        <p:spPr>
          <a:xfrm>
            <a:off x="6694200" y="5962680"/>
            <a:ext cx="2005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vel de emis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2"/>
          <p:cNvSpPr/>
          <p:nvPr/>
        </p:nvSpPr>
        <p:spPr>
          <a:xfrm>
            <a:off x="441360" y="1447920"/>
            <a:ext cx="1464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óla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 un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emis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3"/>
          <p:cNvSpPr/>
          <p:nvPr/>
        </p:nvSpPr>
        <p:spPr>
          <a:xfrm>
            <a:off x="198108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>
            <a:off x="253368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5"/>
          <p:cNvSpPr/>
          <p:nvPr/>
        </p:nvSpPr>
        <p:spPr>
          <a:xfrm>
            <a:off x="300996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6"/>
          <p:cNvSpPr/>
          <p:nvPr/>
        </p:nvSpPr>
        <p:spPr>
          <a:xfrm>
            <a:off x="348624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7"/>
          <p:cNvSpPr/>
          <p:nvPr/>
        </p:nvSpPr>
        <p:spPr>
          <a:xfrm>
            <a:off x="396216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8"/>
          <p:cNvSpPr/>
          <p:nvPr/>
        </p:nvSpPr>
        <p:spPr>
          <a:xfrm>
            <a:off x="4438440" y="59436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9"/>
          <p:cNvSpPr/>
          <p:nvPr/>
        </p:nvSpPr>
        <p:spPr>
          <a:xfrm>
            <a:off x="5041440" y="59436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0"/>
          <p:cNvSpPr/>
          <p:nvPr/>
        </p:nvSpPr>
        <p:spPr>
          <a:xfrm>
            <a:off x="5645160" y="5956200"/>
            <a:ext cx="434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1"/>
          <p:cNvSpPr/>
          <p:nvPr/>
        </p:nvSpPr>
        <p:spPr>
          <a:xfrm>
            <a:off x="6248520" y="5956200"/>
            <a:ext cx="434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2"/>
          <p:cNvSpPr/>
          <p:nvPr/>
        </p:nvSpPr>
        <p:spPr>
          <a:xfrm>
            <a:off x="1942920" y="54198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23"/>
          <p:cNvSpPr/>
          <p:nvPr/>
        </p:nvSpPr>
        <p:spPr>
          <a:xfrm>
            <a:off x="1942920" y="48960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4"/>
          <p:cNvSpPr/>
          <p:nvPr/>
        </p:nvSpPr>
        <p:spPr>
          <a:xfrm>
            <a:off x="1942920" y="43718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5"/>
          <p:cNvSpPr/>
          <p:nvPr/>
        </p:nvSpPr>
        <p:spPr>
          <a:xfrm>
            <a:off x="1942920" y="38480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26"/>
          <p:cNvSpPr/>
          <p:nvPr/>
        </p:nvSpPr>
        <p:spPr>
          <a:xfrm>
            <a:off x="1828440" y="332424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27"/>
          <p:cNvSpPr/>
          <p:nvPr/>
        </p:nvSpPr>
        <p:spPr>
          <a:xfrm>
            <a:off x="1828440" y="280044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28"/>
          <p:cNvSpPr/>
          <p:nvPr/>
        </p:nvSpPr>
        <p:spPr>
          <a:xfrm>
            <a:off x="1828440" y="227664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29"/>
          <p:cNvSpPr/>
          <p:nvPr/>
        </p:nvSpPr>
        <p:spPr>
          <a:xfrm>
            <a:off x="1828440" y="175248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Group 63"/>
          <p:cNvGrpSpPr/>
          <p:nvPr/>
        </p:nvGrpSpPr>
        <p:grpSpPr>
          <a:xfrm>
            <a:off x="3963960" y="2897280"/>
            <a:ext cx="4959720" cy="3122640"/>
            <a:chOff x="3963960" y="2897280"/>
            <a:chExt cx="4959720" cy="3122640"/>
          </a:xfrm>
        </p:grpSpPr>
        <p:sp>
          <p:nvSpPr>
            <p:cNvPr id="922" name="AutoShape 4"/>
            <p:cNvSpPr/>
            <p:nvPr/>
          </p:nvSpPr>
          <p:spPr>
            <a:xfrm rot="1020000">
              <a:off x="4200480" y="3282840"/>
              <a:ext cx="290520" cy="839880"/>
            </a:xfrm>
            <a:prstGeom prst="rtTriangl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50"/>
            <p:cNvSpPr/>
            <p:nvPr/>
          </p:nvSpPr>
          <p:spPr>
            <a:xfrm>
              <a:off x="3963960" y="28972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41"/>
            <p:cNvSpPr/>
            <p:nvPr/>
          </p:nvSpPr>
          <p:spPr>
            <a:xfrm>
              <a:off x="6562800" y="3838680"/>
              <a:ext cx="2360880" cy="941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bido a la informació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mitada, la norma es de 9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una disminución del12,5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r ciento). ADE &lt; ABC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43"/>
            <p:cNvSpPr/>
            <p:nvPr/>
          </p:nvSpPr>
          <p:spPr>
            <a:xfrm>
              <a:off x="42670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49"/>
            <p:cNvSpPr/>
            <p:nvPr/>
          </p:nvSpPr>
          <p:spPr>
            <a:xfrm>
              <a:off x="4344840" y="36590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51"/>
            <p:cNvSpPr/>
            <p:nvPr/>
          </p:nvSpPr>
          <p:spPr>
            <a:xfrm>
              <a:off x="4267080" y="40384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36"/>
            <p:cNvSpPr/>
            <p:nvPr/>
          </p:nvSpPr>
          <p:spPr>
            <a:xfrm flipV="1">
              <a:off x="4343400" y="3354480"/>
              <a:ext cx="0" cy="2665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Group 58"/>
          <p:cNvGrpSpPr/>
          <p:nvPr/>
        </p:nvGrpSpPr>
        <p:grpSpPr>
          <a:xfrm>
            <a:off x="2190600" y="3459240"/>
            <a:ext cx="1979640" cy="2547360"/>
            <a:chOff x="2190600" y="3459240"/>
            <a:chExt cx="1979640" cy="2547360"/>
          </a:xfrm>
        </p:grpSpPr>
        <p:sp>
          <p:nvSpPr>
            <p:cNvPr id="930" name="Line 30"/>
            <p:cNvSpPr/>
            <p:nvPr/>
          </p:nvSpPr>
          <p:spPr>
            <a:xfrm>
              <a:off x="2190600" y="4006440"/>
              <a:ext cx="19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31"/>
            <p:cNvSpPr/>
            <p:nvPr/>
          </p:nvSpPr>
          <p:spPr>
            <a:xfrm flipV="1">
              <a:off x="4093920" y="4027320"/>
              <a:ext cx="0" cy="19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42"/>
            <p:cNvSpPr/>
            <p:nvPr/>
          </p:nvSpPr>
          <p:spPr>
            <a:xfrm>
              <a:off x="4017600" y="3949560"/>
              <a:ext cx="152640" cy="151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46"/>
            <p:cNvSpPr/>
            <p:nvPr/>
          </p:nvSpPr>
          <p:spPr>
            <a:xfrm>
              <a:off x="3774960" y="345924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" name="Line 34"/>
          <p:cNvSpPr/>
          <p:nvPr/>
        </p:nvSpPr>
        <p:spPr>
          <a:xfrm flipV="1">
            <a:off x="4879800" y="1701360"/>
            <a:ext cx="0" cy="4341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33"/>
          <p:cNvSpPr/>
          <p:nvPr/>
        </p:nvSpPr>
        <p:spPr>
          <a:xfrm>
            <a:off x="2214720" y="4290840"/>
            <a:ext cx="26650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44"/>
          <p:cNvSpPr/>
          <p:nvPr/>
        </p:nvSpPr>
        <p:spPr>
          <a:xfrm>
            <a:off x="4803840" y="4214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45"/>
          <p:cNvSpPr/>
          <p:nvPr/>
        </p:nvSpPr>
        <p:spPr>
          <a:xfrm>
            <a:off x="4803840" y="154764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47"/>
          <p:cNvSpPr/>
          <p:nvPr/>
        </p:nvSpPr>
        <p:spPr>
          <a:xfrm>
            <a:off x="4957920" y="38354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48"/>
          <p:cNvSpPr/>
          <p:nvPr/>
        </p:nvSpPr>
        <p:spPr>
          <a:xfrm>
            <a:off x="4957920" y="139716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52"/>
          <p:cNvSpPr/>
          <p:nvPr/>
        </p:nvSpPr>
        <p:spPr>
          <a:xfrm>
            <a:off x="5237280" y="1339920"/>
            <a:ext cx="3540240" cy="941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bido a la informació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itada, la tasa es de 7 dóla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a reducción del 12,5 por ciento). L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isiones aumentan a 11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Resumen: tasas frente a norma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e prefiere la norma, cuando la curva del CSM es relativamente inclinada y la del CMR es relativamente plan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s normas (cuando la información es incompleta) permiten tener más certeza sobre los niveles de emisión e incertidumbre sobre la reducción de los cost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aneras de corregir los fallos de mercad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Resumen: tasas frente a norma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s tasas permiten tener más certeza sobre los costes, pero los niveles de las emisiones son incierto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política preferible depende de la naturaleza de la incertidumbre y de la forma de las curvas de coste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aneras de corregir los fallos de mercad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709200" y="1517760"/>
            <a:ext cx="8434440" cy="477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permisos transferibles de contaminación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ermiten desarrollar un mercado competitivo de externalidade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organismo responsable determina el nivel de las emisiones y el número de permiso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62626"/>
                </a:solidFill>
                <a:latin typeface="Arial"/>
              </a:rPr>
              <a:t>Los permisos se pueden comprar y vender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s empresas con altos costes comprarán los permisos a otras con costes bajo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title"/>
          </p:nvPr>
        </p:nvSpPr>
        <p:spPr>
          <a:xfrm>
            <a:off x="550440" y="190440"/>
            <a:ext cx="832644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aneras de corregir los fallos de mercad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Qué factores podrían limitar la eficiencia de este modelo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Maneras de corregir los fallos de mercad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44240" y="0"/>
            <a:ext cx="869940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os costes y los beneficios de la reducción de las emisiones de dióxido de azufre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oste de reducción de las emision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ustitución del carbón y del petróleo por gas natural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quipo de control de las emisione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Beneficios de la reducción de las emision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alud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Reducción de la corrosión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stétic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title"/>
          </p:nvPr>
        </p:nvSpPr>
        <p:spPr>
          <a:xfrm>
            <a:off x="444240" y="0"/>
            <a:ext cx="869940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os costes y los beneficios de la reducción de las emisiones de dióxido de azufre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La reducción de las emisiones de dióxido de azufre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75" name="Rectangle 9"/>
          <p:cNvSpPr/>
          <p:nvPr/>
        </p:nvSpPr>
        <p:spPr>
          <a:xfrm>
            <a:off x="3124080" y="6242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10"/>
          <p:cNvSpPr/>
          <p:nvPr/>
        </p:nvSpPr>
        <p:spPr>
          <a:xfrm>
            <a:off x="2209680" y="1709640"/>
            <a:ext cx="0" cy="429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11"/>
          <p:cNvSpPr/>
          <p:nvPr/>
        </p:nvSpPr>
        <p:spPr>
          <a:xfrm>
            <a:off x="2225520" y="6013440"/>
            <a:ext cx="5241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2"/>
          <p:cNvSpPr/>
          <p:nvPr/>
        </p:nvSpPr>
        <p:spPr>
          <a:xfrm>
            <a:off x="7452360" y="5592600"/>
            <a:ext cx="1697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ntración 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óxido de azufr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pm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3"/>
          <p:cNvSpPr/>
          <p:nvPr/>
        </p:nvSpPr>
        <p:spPr>
          <a:xfrm>
            <a:off x="1676520" y="452124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4"/>
          <p:cNvSpPr/>
          <p:nvPr/>
        </p:nvSpPr>
        <p:spPr>
          <a:xfrm>
            <a:off x="1676520" y="309888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5"/>
          <p:cNvSpPr/>
          <p:nvPr/>
        </p:nvSpPr>
        <p:spPr>
          <a:xfrm>
            <a:off x="1676520" y="1676520"/>
            <a:ext cx="43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6"/>
          <p:cNvSpPr/>
          <p:nvPr/>
        </p:nvSpPr>
        <p:spPr>
          <a:xfrm>
            <a:off x="1904760" y="59691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17"/>
          <p:cNvSpPr/>
          <p:nvPr/>
        </p:nvSpPr>
        <p:spPr>
          <a:xfrm>
            <a:off x="465120" y="1393920"/>
            <a:ext cx="12895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óla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unida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reduc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18"/>
          <p:cNvSpPr/>
          <p:nvPr/>
        </p:nvSpPr>
        <p:spPr>
          <a:xfrm>
            <a:off x="2952720" y="59691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9"/>
          <p:cNvSpPr/>
          <p:nvPr/>
        </p:nvSpPr>
        <p:spPr>
          <a:xfrm>
            <a:off x="4229280" y="59691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0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20"/>
          <p:cNvSpPr/>
          <p:nvPr/>
        </p:nvSpPr>
        <p:spPr>
          <a:xfrm>
            <a:off x="5505480" y="59691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0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21"/>
          <p:cNvSpPr/>
          <p:nvPr/>
        </p:nvSpPr>
        <p:spPr>
          <a:xfrm>
            <a:off x="6781680" y="59691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,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Group 30"/>
          <p:cNvGrpSpPr/>
          <p:nvPr/>
        </p:nvGrpSpPr>
        <p:grpSpPr>
          <a:xfrm>
            <a:off x="2212920" y="4078440"/>
            <a:ext cx="4973760" cy="1931760"/>
            <a:chOff x="2212920" y="4078440"/>
            <a:chExt cx="4973760" cy="1931760"/>
          </a:xfrm>
        </p:grpSpPr>
        <p:sp>
          <p:nvSpPr>
            <p:cNvPr id="989" name="Freeform 6"/>
            <p:cNvSpPr/>
            <p:nvPr/>
          </p:nvSpPr>
          <p:spPr>
            <a:xfrm>
              <a:off x="2212920" y="4689360"/>
              <a:ext cx="1695600" cy="132084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320840"/>
                <a:gd name="textAreaBottom" fmla="*/ 1321200 h 1320840"/>
              </a:gdLst>
              <a:ahLst/>
              <a:rect l="textAreaLeft" t="textAreaTop" r="textAreaRight" b="textAreaBottom"/>
              <a:pathLst>
                <a:path w="1068" h="832">
                  <a:moveTo>
                    <a:pt x="0" y="831"/>
                  </a:moveTo>
                  <a:lnTo>
                    <a:pt x="181" y="631"/>
                  </a:lnTo>
                  <a:lnTo>
                    <a:pt x="358" y="449"/>
                  </a:lnTo>
                  <a:lnTo>
                    <a:pt x="445" y="364"/>
                  </a:lnTo>
                  <a:lnTo>
                    <a:pt x="524" y="285"/>
                  </a:lnTo>
                  <a:lnTo>
                    <a:pt x="598" y="218"/>
                  </a:lnTo>
                  <a:lnTo>
                    <a:pt x="669" y="157"/>
                  </a:lnTo>
                  <a:lnTo>
                    <a:pt x="732" y="115"/>
                  </a:lnTo>
                  <a:lnTo>
                    <a:pt x="795" y="78"/>
                  </a:lnTo>
                  <a:lnTo>
                    <a:pt x="850" y="54"/>
                  </a:lnTo>
                  <a:lnTo>
                    <a:pt x="906" y="42"/>
                  </a:lnTo>
                  <a:lnTo>
                    <a:pt x="953" y="30"/>
                  </a:lnTo>
                  <a:lnTo>
                    <a:pt x="996" y="18"/>
                  </a:lnTo>
                  <a:lnTo>
                    <a:pt x="1035" y="12"/>
                  </a:lnTo>
                  <a:lnTo>
                    <a:pt x="1067" y="0"/>
                  </a:lnTo>
                </a:path>
              </a:pathLst>
            </a:custGeom>
            <a:noFill/>
            <a:ln cap="rnd" w="507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7"/>
            <p:cNvSpPr/>
            <p:nvPr/>
          </p:nvSpPr>
          <p:spPr>
            <a:xfrm>
              <a:off x="3887640" y="4724280"/>
              <a:ext cx="3198960" cy="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23"/>
            <p:cNvSpPr/>
            <p:nvPr/>
          </p:nvSpPr>
          <p:spPr>
            <a:xfrm>
              <a:off x="5161320" y="4078440"/>
              <a:ext cx="2025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ste social margin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24"/>
            <p:cNvSpPr/>
            <p:nvPr/>
          </p:nvSpPr>
          <p:spPr>
            <a:xfrm flipH="1">
              <a:off x="5411520" y="4344840"/>
              <a:ext cx="150840" cy="30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Line 4"/>
          <p:cNvSpPr/>
          <p:nvPr/>
        </p:nvSpPr>
        <p:spPr>
          <a:xfrm>
            <a:off x="3886200" y="4040280"/>
            <a:ext cx="0" cy="1446120"/>
          </a:xfrm>
          <a:prstGeom prst="line">
            <a:avLst/>
          </a:prstGeom>
          <a:ln w="507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5"/>
          <p:cNvSpPr/>
          <p:nvPr/>
        </p:nvSpPr>
        <p:spPr>
          <a:xfrm>
            <a:off x="2211480" y="1981080"/>
            <a:ext cx="760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5"/>
          <p:cNvSpPr/>
          <p:nvPr/>
        </p:nvSpPr>
        <p:spPr>
          <a:xfrm>
            <a:off x="2973240" y="4038480"/>
            <a:ext cx="91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6"/>
          <p:cNvSpPr/>
          <p:nvPr/>
        </p:nvSpPr>
        <p:spPr>
          <a:xfrm>
            <a:off x="3887640" y="5486400"/>
            <a:ext cx="3198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7"/>
          <p:cNvSpPr/>
          <p:nvPr/>
        </p:nvSpPr>
        <p:spPr>
          <a:xfrm>
            <a:off x="2971800" y="1982880"/>
            <a:ext cx="0" cy="2055600"/>
          </a:xfrm>
          <a:prstGeom prst="line">
            <a:avLst/>
          </a:prstGeom>
          <a:ln w="507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28"/>
          <p:cNvSpPr/>
          <p:nvPr/>
        </p:nvSpPr>
        <p:spPr>
          <a:xfrm>
            <a:off x="4833000" y="5602320"/>
            <a:ext cx="262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e marginal de reduc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9"/>
          <p:cNvSpPr/>
          <p:nvPr/>
        </p:nvSpPr>
        <p:spPr>
          <a:xfrm flipH="1" flipV="1">
            <a:off x="4763880" y="5582880"/>
            <a:ext cx="15084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Oval 22"/>
          <p:cNvSpPr/>
          <p:nvPr/>
        </p:nvSpPr>
        <p:spPr>
          <a:xfrm>
            <a:off x="3809880" y="46483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35"/>
          <p:cNvSpPr/>
          <p:nvPr/>
        </p:nvSpPr>
        <p:spPr>
          <a:xfrm>
            <a:off x="3323520" y="1911240"/>
            <a:ext cx="5621040" cy="946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acion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MR = CSM en 0,0275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0275 es un nivel de emisión ligeramente inferior al alcanzado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iciencia económica mejorada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l comercio de emisiones y el aire pur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169640" y="1487520"/>
            <a:ext cx="7597800" cy="537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Burbuja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62626"/>
                </a:solidFill>
                <a:latin typeface="Arial"/>
              </a:rPr>
              <a:t>Una empresa puede ajustar sus controles de la contaminación proveniente de las diferentes fuentes de contaminantes,siempre y cuando no traspase el </a:t>
            </a:r>
            <a:r>
              <a:rPr b="0" i="1" lang="en-US" sz="2500" spc="-1" strike="noStrike">
                <a:solidFill>
                  <a:srgbClr val="262626"/>
                </a:solidFill>
                <a:latin typeface="Arial"/>
              </a:rPr>
              <a:t>nivel total de contaminantes</a:t>
            </a:r>
            <a:r>
              <a:rPr b="0" lang="en-US" sz="2500" spc="-1" strike="noStrike">
                <a:solidFill>
                  <a:srgbClr val="262626"/>
                </a:solidFill>
                <a:latin typeface="Arial"/>
              </a:rPr>
              <a:t> establecido como límite.</a:t>
            </a:r>
            <a:endParaRPr b="0" lang="en-US" sz="25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24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mpensacione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62626"/>
                </a:solidFill>
                <a:latin typeface="Arial"/>
              </a:rPr>
              <a:t>Pueden instalarse nuevas fuentes de emisiones si se reducen esas nuevas emisiones. </a:t>
            </a:r>
            <a:endParaRPr b="0" lang="en-US" sz="2500" spc="-1" strike="noStrike">
              <a:solidFill>
                <a:srgbClr val="262626"/>
              </a:solidFill>
              <a:latin typeface="Arial"/>
            </a:endParaRPr>
          </a:p>
          <a:p>
            <a:pPr lvl="2" marL="1162080" indent="-228600">
              <a:lnSpc>
                <a:spcPct val="90000"/>
              </a:lnSpc>
              <a:spcBef>
                <a:spcPts val="108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62626"/>
                </a:solidFill>
                <a:latin typeface="Arial"/>
              </a:rPr>
              <a:t>Desde 1979 se han realizado 2.000 transacciones.</a:t>
            </a:r>
            <a:endParaRPr b="0" lang="en-US" sz="25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1114200" y="1401840"/>
            <a:ext cx="73962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oste de la reducción de las emisiones de hidrocarburos en un 85 por ciento obtenido por DuPont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11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Tres medidas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999360" indent="-196560">
              <a:lnSpc>
                <a:spcPct val="90000"/>
              </a:lnSpc>
              <a:spcBef>
                <a:spcPts val="10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Reducción del 85 por ciento en cada planta                     (coste total = 105,7 millones de dólares)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999360" indent="-196560">
              <a:lnSpc>
                <a:spcPct val="90000"/>
              </a:lnSpc>
              <a:spcBef>
                <a:spcPts val="10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Reducción del 85 por ciento en cada planta con transacciones internas (coste total = 42,6 millones de dólares)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999360" indent="-196560">
              <a:lnSpc>
                <a:spcPct val="90000"/>
              </a:lnSpc>
              <a:spcBef>
                <a:spcPts val="1049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Reducción del 85 por ciento en cada planta con transacciones internas y externas.                                                     (coste total = 14,6 millones de dólares)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l comercio de emisiones y el aire pur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bienes público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s preferencias privadas por los bienes público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sbozo del capítul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739440" y="1182600"/>
            <a:ext cx="8404200" cy="50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lean Air Act (ley sobre la contaminación del aire) de 1990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Desde 1990, el coste de los permisos han bajado de los 300 dólares que se esperaban a 100 dólar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Causas de la caída de los precios de los permisos: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62626"/>
                </a:solidFill>
                <a:latin typeface="Arial"/>
              </a:rPr>
              <a:t>Técnicas de reducción más eficac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62626"/>
                </a:solidFill>
                <a:latin typeface="Arial"/>
              </a:rPr>
              <a:t>Caída del precio del carbón bajo en azufre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l comercio de emisiones y el aire pur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reciclad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os hogares pueden deshacerse del vidrio y de otras basuras con un coste muy baj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bajo coste del vertido crea una divergencia entre el coste privado y el social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El comercio de emisiones y el aire puro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761760" y="37908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La cantidad eficiente de reciclado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26" name="Line 6"/>
          <p:cNvSpPr/>
          <p:nvPr/>
        </p:nvSpPr>
        <p:spPr>
          <a:xfrm>
            <a:off x="2209680" y="1709640"/>
            <a:ext cx="0" cy="429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7"/>
          <p:cNvSpPr/>
          <p:nvPr/>
        </p:nvSpPr>
        <p:spPr>
          <a:xfrm>
            <a:off x="2212920" y="601344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8"/>
          <p:cNvSpPr/>
          <p:nvPr/>
        </p:nvSpPr>
        <p:spPr>
          <a:xfrm>
            <a:off x="7626240" y="5954760"/>
            <a:ext cx="113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ch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9"/>
          <p:cNvSpPr/>
          <p:nvPr/>
        </p:nvSpPr>
        <p:spPr>
          <a:xfrm>
            <a:off x="1295640" y="1600200"/>
            <a:ext cx="815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10"/>
          <p:cNvSpPr/>
          <p:nvPr/>
        </p:nvSpPr>
        <p:spPr>
          <a:xfrm>
            <a:off x="1966680" y="59864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11"/>
          <p:cNvSpPr/>
          <p:nvPr/>
        </p:nvSpPr>
        <p:spPr>
          <a:xfrm>
            <a:off x="3241440" y="59864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12"/>
          <p:cNvSpPr/>
          <p:nvPr/>
        </p:nvSpPr>
        <p:spPr>
          <a:xfrm>
            <a:off x="4516200" y="598644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13"/>
          <p:cNvSpPr/>
          <p:nvPr/>
        </p:nvSpPr>
        <p:spPr>
          <a:xfrm>
            <a:off x="5792400" y="598644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30"/>
          <p:cNvGrpSpPr/>
          <p:nvPr/>
        </p:nvGrpSpPr>
        <p:grpSpPr>
          <a:xfrm>
            <a:off x="2206800" y="2897280"/>
            <a:ext cx="4427280" cy="3364200"/>
            <a:chOff x="2206800" y="2897280"/>
            <a:chExt cx="4427280" cy="3364200"/>
          </a:xfrm>
        </p:grpSpPr>
        <p:sp>
          <p:nvSpPr>
            <p:cNvPr id="1035" name="Line 14"/>
            <p:cNvSpPr/>
            <p:nvPr/>
          </p:nvSpPr>
          <p:spPr>
            <a:xfrm>
              <a:off x="2516040" y="4802040"/>
              <a:ext cx="3503880" cy="121788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15"/>
            <p:cNvSpPr/>
            <p:nvPr/>
          </p:nvSpPr>
          <p:spPr>
            <a:xfrm>
              <a:off x="2271600" y="4309920"/>
              <a:ext cx="70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2206800" y="3430440"/>
              <a:ext cx="4120920" cy="2287800"/>
            </a:xfrm>
            <a:custGeom>
              <a:avLst/>
              <a:gdLst>
                <a:gd name="textAreaLeft" fmla="*/ 0 w 4120920"/>
                <a:gd name="textAreaRight" fmla="*/ 4121280 w 4120920"/>
                <a:gd name="textAreaTop" fmla="*/ 0 h 2287800"/>
                <a:gd name="textAreaBottom" fmla="*/ 2288160 h 2287800"/>
              </a:gdLst>
              <a:ahLst/>
              <a:rect l="textAreaLeft" t="textAreaTop" r="textAreaRight" b="textAreaBottom"/>
              <a:pathLst>
                <a:path w="2596" h="1441">
                  <a:moveTo>
                    <a:pt x="0" y="1440"/>
                  </a:moveTo>
                  <a:lnTo>
                    <a:pt x="45" y="1434"/>
                  </a:lnTo>
                  <a:lnTo>
                    <a:pt x="102" y="1428"/>
                  </a:lnTo>
                  <a:lnTo>
                    <a:pt x="166" y="1417"/>
                  </a:lnTo>
                  <a:lnTo>
                    <a:pt x="242" y="1405"/>
                  </a:lnTo>
                  <a:lnTo>
                    <a:pt x="402" y="1382"/>
                  </a:lnTo>
                  <a:lnTo>
                    <a:pt x="478" y="1371"/>
                  </a:lnTo>
                  <a:lnTo>
                    <a:pt x="555" y="1354"/>
                  </a:lnTo>
                  <a:lnTo>
                    <a:pt x="695" y="1325"/>
                  </a:lnTo>
                  <a:lnTo>
                    <a:pt x="835" y="1296"/>
                  </a:lnTo>
                  <a:lnTo>
                    <a:pt x="982" y="1250"/>
                  </a:lnTo>
                  <a:lnTo>
                    <a:pt x="1052" y="1221"/>
                  </a:lnTo>
                  <a:lnTo>
                    <a:pt x="1129" y="1186"/>
                  </a:lnTo>
                  <a:lnTo>
                    <a:pt x="1282" y="1100"/>
                  </a:lnTo>
                  <a:lnTo>
                    <a:pt x="1435" y="1002"/>
                  </a:lnTo>
                  <a:lnTo>
                    <a:pt x="1594" y="881"/>
                  </a:lnTo>
                  <a:lnTo>
                    <a:pt x="1766" y="743"/>
                  </a:lnTo>
                  <a:lnTo>
                    <a:pt x="1862" y="662"/>
                  </a:lnTo>
                  <a:lnTo>
                    <a:pt x="1977" y="564"/>
                  </a:lnTo>
                  <a:lnTo>
                    <a:pt x="2091" y="461"/>
                  </a:lnTo>
                  <a:lnTo>
                    <a:pt x="2206" y="357"/>
                  </a:lnTo>
                  <a:lnTo>
                    <a:pt x="2321" y="253"/>
                  </a:lnTo>
                  <a:lnTo>
                    <a:pt x="2429" y="155"/>
                  </a:lnTo>
                  <a:lnTo>
                    <a:pt x="2518" y="69"/>
                  </a:lnTo>
                  <a:lnTo>
                    <a:pt x="2595" y="0"/>
                  </a:lnTo>
                </a:path>
              </a:pathLst>
            </a:custGeom>
            <a:noFill/>
            <a:ln cap="rnd" w="507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7"/>
            <p:cNvSpPr/>
            <p:nvPr/>
          </p:nvSpPr>
          <p:spPr>
            <a:xfrm>
              <a:off x="5945040" y="2897280"/>
              <a:ext cx="689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S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19"/>
            <p:cNvSpPr/>
            <p:nvPr/>
          </p:nvSpPr>
          <p:spPr>
            <a:xfrm>
              <a:off x="3962520" y="5335560"/>
              <a:ext cx="0" cy="684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20"/>
            <p:cNvSpPr/>
            <p:nvPr/>
          </p:nvSpPr>
          <p:spPr>
            <a:xfrm>
              <a:off x="3795480" y="5959440"/>
              <a:ext cx="41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*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21"/>
            <p:cNvSpPr/>
            <p:nvPr/>
          </p:nvSpPr>
          <p:spPr>
            <a:xfrm>
              <a:off x="3886200" y="5257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Line 4"/>
          <p:cNvSpPr/>
          <p:nvPr/>
        </p:nvSpPr>
        <p:spPr>
          <a:xfrm flipV="1">
            <a:off x="2211480" y="5106960"/>
            <a:ext cx="4037040" cy="379440"/>
          </a:xfrm>
          <a:prstGeom prst="line">
            <a:avLst/>
          </a:prstGeom>
          <a:ln w="507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18"/>
          <p:cNvSpPr/>
          <p:nvPr/>
        </p:nvSpPr>
        <p:spPr>
          <a:xfrm>
            <a:off x="5902920" y="1682640"/>
            <a:ext cx="2764800" cy="72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 depósitos reembolsables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M aumenta, por lo q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M = CSM = CM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27"/>
          <p:cNvSpPr/>
          <p:nvPr/>
        </p:nvSpPr>
        <p:spPr>
          <a:xfrm>
            <a:off x="6249960" y="4592520"/>
            <a:ext cx="289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 + reembolso por un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22"/>
          <p:cNvSpPr/>
          <p:nvPr/>
        </p:nvSpPr>
        <p:spPr>
          <a:xfrm flipV="1">
            <a:off x="2211480" y="5335560"/>
            <a:ext cx="4037040" cy="37944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23"/>
          <p:cNvSpPr/>
          <p:nvPr/>
        </p:nvSpPr>
        <p:spPr>
          <a:xfrm>
            <a:off x="6230880" y="52401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24"/>
          <p:cNvSpPr/>
          <p:nvPr/>
        </p:nvSpPr>
        <p:spPr>
          <a:xfrm>
            <a:off x="4495680" y="5487840"/>
            <a:ext cx="0" cy="532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val 25"/>
          <p:cNvSpPr/>
          <p:nvPr/>
        </p:nvSpPr>
        <p:spPr>
          <a:xfrm>
            <a:off x="4419720" y="54100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26"/>
          <p:cNvSpPr/>
          <p:nvPr/>
        </p:nvSpPr>
        <p:spPr>
          <a:xfrm>
            <a:off x="4195080" y="5959440"/>
            <a:ext cx="397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28"/>
          <p:cNvSpPr/>
          <p:nvPr/>
        </p:nvSpPr>
        <p:spPr>
          <a:xfrm>
            <a:off x="2747520" y="1671480"/>
            <a:ext cx="3066480" cy="786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n la intervención del merc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nivel de desechos estará en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*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761760" y="248760"/>
            <a:ext cx="8381880" cy="8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Los depósitos reembolsables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55" name="Rectangle 5"/>
          <p:cNvSpPr/>
          <p:nvPr/>
        </p:nvSpPr>
        <p:spPr>
          <a:xfrm>
            <a:off x="3124080" y="6242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6"/>
          <p:cNvSpPr/>
          <p:nvPr/>
        </p:nvSpPr>
        <p:spPr>
          <a:xfrm>
            <a:off x="2209680" y="1709640"/>
            <a:ext cx="0" cy="429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7"/>
          <p:cNvSpPr/>
          <p:nvPr/>
        </p:nvSpPr>
        <p:spPr>
          <a:xfrm>
            <a:off x="2200320" y="6013440"/>
            <a:ext cx="486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8"/>
          <p:cNvSpPr/>
          <p:nvPr/>
        </p:nvSpPr>
        <p:spPr>
          <a:xfrm>
            <a:off x="6713640" y="5959440"/>
            <a:ext cx="194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tidad de vidr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9"/>
          <p:cNvSpPr/>
          <p:nvPr/>
        </p:nvSpPr>
        <p:spPr>
          <a:xfrm>
            <a:off x="1828800" y="16002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Group 46"/>
          <p:cNvGrpSpPr/>
          <p:nvPr/>
        </p:nvGrpSpPr>
        <p:grpSpPr>
          <a:xfrm>
            <a:off x="2592360" y="2897280"/>
            <a:ext cx="4155840" cy="2801520"/>
            <a:chOff x="2592360" y="2897280"/>
            <a:chExt cx="4155840" cy="2801520"/>
          </a:xfrm>
        </p:grpSpPr>
        <p:sp>
          <p:nvSpPr>
            <p:cNvPr id="1061" name="Line 16"/>
            <p:cNvSpPr/>
            <p:nvPr/>
          </p:nvSpPr>
          <p:spPr>
            <a:xfrm>
              <a:off x="2592360" y="2897280"/>
              <a:ext cx="3732120" cy="258912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17"/>
            <p:cNvSpPr/>
            <p:nvPr/>
          </p:nvSpPr>
          <p:spPr>
            <a:xfrm>
              <a:off x="6402240" y="533556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Rectangle 24"/>
          <p:cNvSpPr/>
          <p:nvPr/>
        </p:nvSpPr>
        <p:spPr>
          <a:xfrm>
            <a:off x="6968880" y="4268880"/>
            <a:ext cx="1746720" cy="819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precio desciende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’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 cantidad 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drio reciclado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menta 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*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Group 45"/>
          <p:cNvGrpSpPr/>
          <p:nvPr/>
        </p:nvGrpSpPr>
        <p:grpSpPr>
          <a:xfrm>
            <a:off x="2227320" y="1374840"/>
            <a:ext cx="4602960" cy="4037040"/>
            <a:chOff x="2227320" y="1374840"/>
            <a:chExt cx="4602960" cy="4037040"/>
          </a:xfrm>
        </p:grpSpPr>
        <p:sp>
          <p:nvSpPr>
            <p:cNvPr id="1065" name="Line 10"/>
            <p:cNvSpPr/>
            <p:nvPr/>
          </p:nvSpPr>
          <p:spPr>
            <a:xfrm flipV="1">
              <a:off x="2684520" y="3584520"/>
              <a:ext cx="3808440" cy="152244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12"/>
            <p:cNvSpPr/>
            <p:nvPr/>
          </p:nvSpPr>
          <p:spPr>
            <a:xfrm flipV="1">
              <a:off x="2227320" y="2441880"/>
              <a:ext cx="4189320" cy="2970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13"/>
            <p:cNvSpPr/>
            <p:nvPr/>
          </p:nvSpPr>
          <p:spPr>
            <a:xfrm>
              <a:off x="6423480" y="221328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v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Line 14"/>
            <p:cNvSpPr/>
            <p:nvPr/>
          </p:nvSpPr>
          <p:spPr>
            <a:xfrm flipV="1">
              <a:off x="2227320" y="1679400"/>
              <a:ext cx="3351240" cy="335124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5"/>
            <p:cNvSpPr/>
            <p:nvPr/>
          </p:nvSpPr>
          <p:spPr>
            <a:xfrm>
              <a:off x="5583240" y="1374840"/>
              <a:ext cx="385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28"/>
            <p:cNvSpPr/>
            <p:nvPr/>
          </p:nvSpPr>
          <p:spPr>
            <a:xfrm>
              <a:off x="6418080" y="33562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36"/>
            <p:cNvSpPr/>
            <p:nvPr/>
          </p:nvSpPr>
          <p:spPr>
            <a:xfrm>
              <a:off x="2335320" y="1376640"/>
              <a:ext cx="2449080" cy="10512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 oferta de vidrio del mercad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s la suma de la oferta del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idrio virgen (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) y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 oferta del vidri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iclado (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Group 43"/>
          <p:cNvGrpSpPr/>
          <p:nvPr/>
        </p:nvGrpSpPr>
        <p:grpSpPr>
          <a:xfrm>
            <a:off x="1754280" y="2664000"/>
            <a:ext cx="7067160" cy="3707280"/>
            <a:chOff x="1754280" y="2664000"/>
            <a:chExt cx="7067160" cy="3707280"/>
          </a:xfrm>
        </p:grpSpPr>
        <p:sp>
          <p:nvSpPr>
            <p:cNvPr id="1073" name="Line 21"/>
            <p:cNvSpPr/>
            <p:nvPr/>
          </p:nvSpPr>
          <p:spPr>
            <a:xfrm>
              <a:off x="2895480" y="4344840"/>
              <a:ext cx="0" cy="16750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23"/>
            <p:cNvSpPr/>
            <p:nvPr/>
          </p:nvSpPr>
          <p:spPr>
            <a:xfrm>
              <a:off x="2508840" y="5970600"/>
              <a:ext cx="4449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18"/>
            <p:cNvSpPr/>
            <p:nvPr/>
          </p:nvSpPr>
          <p:spPr>
            <a:xfrm>
              <a:off x="4572000" y="4267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19"/>
            <p:cNvSpPr/>
            <p:nvPr/>
          </p:nvSpPr>
          <p:spPr>
            <a:xfrm flipH="1">
              <a:off x="2211120" y="4343400"/>
              <a:ext cx="2360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20"/>
            <p:cNvSpPr/>
            <p:nvPr/>
          </p:nvSpPr>
          <p:spPr>
            <a:xfrm>
              <a:off x="2819520" y="4267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22"/>
            <p:cNvSpPr/>
            <p:nvPr/>
          </p:nvSpPr>
          <p:spPr>
            <a:xfrm>
              <a:off x="1754280" y="40402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37"/>
            <p:cNvSpPr/>
            <p:nvPr/>
          </p:nvSpPr>
          <p:spPr>
            <a:xfrm>
              <a:off x="6930000" y="2664000"/>
              <a:ext cx="1891440" cy="6613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 los reembolsos el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ecio del vidrio es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y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es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Group 47"/>
          <p:cNvGrpSpPr/>
          <p:nvPr/>
        </p:nvGrpSpPr>
        <p:grpSpPr>
          <a:xfrm>
            <a:off x="1753920" y="1389240"/>
            <a:ext cx="7019280" cy="4944600"/>
            <a:chOff x="1753920" y="1389240"/>
            <a:chExt cx="7019280" cy="4944600"/>
          </a:xfrm>
        </p:grpSpPr>
        <p:sp>
          <p:nvSpPr>
            <p:cNvPr id="1081" name="Oval 30"/>
            <p:cNvSpPr/>
            <p:nvPr/>
          </p:nvSpPr>
          <p:spPr>
            <a:xfrm>
              <a:off x="4902120" y="44956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25"/>
            <p:cNvSpPr/>
            <p:nvPr/>
          </p:nvSpPr>
          <p:spPr>
            <a:xfrm flipV="1">
              <a:off x="2211480" y="2058480"/>
              <a:ext cx="3351240" cy="3351240"/>
            </a:xfrm>
            <a:prstGeom prst="line">
              <a:avLst/>
            </a:prstGeom>
            <a:ln w="50760">
              <a:solidFill>
                <a:srgbClr val="99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26"/>
            <p:cNvSpPr/>
            <p:nvPr/>
          </p:nvSpPr>
          <p:spPr>
            <a:xfrm>
              <a:off x="5567040" y="1830240"/>
              <a:ext cx="4496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’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27"/>
            <p:cNvSpPr/>
            <p:nvPr/>
          </p:nvSpPr>
          <p:spPr>
            <a:xfrm flipV="1">
              <a:off x="2211480" y="4116240"/>
              <a:ext cx="4189320" cy="1293840"/>
            </a:xfrm>
            <a:prstGeom prst="line">
              <a:avLst/>
            </a:prstGeom>
            <a:ln w="507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29"/>
            <p:cNvSpPr/>
            <p:nvPr/>
          </p:nvSpPr>
          <p:spPr>
            <a:xfrm>
              <a:off x="6401880" y="3659040"/>
              <a:ext cx="39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’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31"/>
            <p:cNvSpPr/>
            <p:nvPr/>
          </p:nvSpPr>
          <p:spPr>
            <a:xfrm flipH="1">
              <a:off x="2287080" y="4572000"/>
              <a:ext cx="2513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32"/>
            <p:cNvSpPr/>
            <p:nvPr/>
          </p:nvSpPr>
          <p:spPr>
            <a:xfrm>
              <a:off x="1753920" y="4344840"/>
              <a:ext cx="39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’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33"/>
            <p:cNvSpPr/>
            <p:nvPr/>
          </p:nvSpPr>
          <p:spPr>
            <a:xfrm>
              <a:off x="2971800" y="4495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Line 34"/>
            <p:cNvSpPr/>
            <p:nvPr/>
          </p:nvSpPr>
          <p:spPr>
            <a:xfrm>
              <a:off x="3048120" y="4573440"/>
              <a:ext cx="0" cy="14464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35"/>
            <p:cNvSpPr/>
            <p:nvPr/>
          </p:nvSpPr>
          <p:spPr>
            <a:xfrm>
              <a:off x="2973240" y="597060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38"/>
            <p:cNvSpPr/>
            <p:nvPr/>
          </p:nvSpPr>
          <p:spPr>
            <a:xfrm>
              <a:off x="6281280" y="1389240"/>
              <a:ext cx="2491920" cy="5036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 los reembolsos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umenta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’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y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umenta a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’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50440" y="241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s externalidades y los derechos de propiedad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114200" y="1515600"/>
            <a:ext cx="7396200" cy="42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derechos de propiedad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90840" indent="-2656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Normas legales que describen lo que pueden hacer los individuos o las empresas con su propiedad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90840" indent="-2656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or ejemplo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62720" indent="-2124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i los residentes fueran propietarios del río (derecho de propiedad sobre el agua limpia), controlaría las emisiones realizadas aguas arrib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Negociación y eficiencia económic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eficiencia económica puede lograrse sin la intervención del Estado cuando la externalidad afecta a relativamente pocas partes y cuando los derechos de propiedad están perfectamente especificado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title"/>
          </p:nvPr>
        </p:nvSpPr>
        <p:spPr>
          <a:xfrm>
            <a:off x="550440" y="241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s externalidades y los derechos de propiedad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50800" y="0"/>
            <a:ext cx="859320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os beneficios correspondientes a distintas opciones de emisiones (diarios)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838080" y="28195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3657600"/>
                <a:tab algn="l" pos="537228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n filtro, sin depuradora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100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600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3657600"/>
                <a:tab algn="l" pos="537228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ltro, sin depuradora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300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800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3657600"/>
                <a:tab algn="l" pos="537228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Sin filtro, depuradora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200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700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3657600"/>
                <a:tab algn="l" pos="5372280"/>
                <a:tab algn="l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Filtro, depuradora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300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300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62626"/>
                </a:solidFill>
                <a:latin typeface="Arial"/>
              </a:rPr>
              <a:t>600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Rectangle 6"/>
          <p:cNvSpPr/>
          <p:nvPr/>
        </p:nvSpPr>
        <p:spPr>
          <a:xfrm>
            <a:off x="3527280" y="1598760"/>
            <a:ext cx="56152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ctr" pos="457200"/>
                <a:tab algn="ctr" pos="2228760"/>
                <a:tab algn="ctr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icio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Benefici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Benefici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57200"/>
                <a:tab algn="ctr" pos="2228760"/>
                <a:tab algn="ctr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de los             tot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57200"/>
                <a:tab algn="ctr" pos="2228760"/>
                <a:tab algn="ctr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ábrica ($)   pescadores($)      ($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7"/>
          <p:cNvSpPr/>
          <p:nvPr/>
        </p:nvSpPr>
        <p:spPr>
          <a:xfrm>
            <a:off x="915840" y="2590920"/>
            <a:ext cx="761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fábrica paga el filtr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os pescadores pagan la depurador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olución eficiente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fábrica compra el filtro y los pescadores no instalan la depurador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title"/>
          </p:nvPr>
        </p:nvSpPr>
        <p:spPr>
          <a:xfrm>
            <a:off x="550440" y="241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s externalidades y los derechos de propiedad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50440" y="241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 negociación con distintos derechos de propiedad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77360" y="2374920"/>
            <a:ext cx="866628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Arial"/>
              </a:rPr>
              <a:t>Ausencia de cooperación</a:t>
            </a:r>
            <a:r>
              <a:rPr b="1" i="1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2100"/>
              </a:spcBef>
              <a:buNone/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Beneficios de la fábrica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          500$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       300$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2100"/>
              </a:spcBef>
              <a:buNone/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Beneficios de los pescadores  200$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       500$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2100"/>
              </a:spcBef>
              <a:buNone/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62626"/>
                </a:solidFill>
                <a:latin typeface="Arial"/>
              </a:rPr>
              <a:t>Cooperación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2100"/>
              </a:spcBef>
              <a:buNone/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Beneficios de la fábrica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          550$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       300$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2100"/>
              </a:spcBef>
              <a:buNone/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Beneficios de los pescadores  250$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       500$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9" name="Rectangle 6"/>
          <p:cNvSpPr/>
          <p:nvPr/>
        </p:nvSpPr>
        <p:spPr>
          <a:xfrm>
            <a:off x="3508200" y="1289160"/>
            <a:ext cx="5635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ctr" pos="1085760"/>
                <a:tab algn="ctr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echo a verter      Derecho a ten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1085760"/>
                <a:tab algn="ctr" pos="377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duos                    agua limp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7"/>
          <p:cNvSpPr/>
          <p:nvPr/>
        </p:nvSpPr>
        <p:spPr>
          <a:xfrm>
            <a:off x="1017720" y="2146320"/>
            <a:ext cx="7618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1142640" y="1719360"/>
            <a:ext cx="80010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onclusión: el teorema de Coase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819000" indent="-28548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Cuando las partes pueden negociar sin coste alguno y en beneficio mutuo, el resultado es eficiente, independientemente de cómo se especifiquen los derechos de propiedad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title"/>
          </p:nvPr>
        </p:nvSpPr>
        <p:spPr>
          <a:xfrm>
            <a:off x="550440" y="241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s externalidades y los derechos de propiedad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as externalidades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Negativ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uando la acción de una de las partes impone costes a la otr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Positiva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uando la acción de una de las partes beneficia a la otr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negociación costosa: el papel de la conducta estratégica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62626"/>
                </a:solidFill>
                <a:latin typeface="Arial"/>
              </a:rPr>
              <a:t>Una negociación requiere una reglas y unos derechos de propiedad claramente definidos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title"/>
          </p:nvPr>
        </p:nvSpPr>
        <p:spPr>
          <a:xfrm>
            <a:off x="550440" y="241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s externalidades y los derechos de propiedad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/>
          </p:nvPr>
        </p:nvSpPr>
        <p:spPr>
          <a:xfrm>
            <a:off x="1142640" y="1517400"/>
            <a:ext cx="7628040" cy="459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Una solución jurídica: las demandas por daños y perjuicios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e concede a los pescadores el derecho al agua limpi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fábrica tiene dos opcione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No instalar un filtro, pagar los daño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5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Beneficio = 100$ (500$ - 400$)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Instalar el filtro, evitar el pago de los daño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Beneficio = 300$ (500$ - 200$)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title"/>
          </p:nvPr>
        </p:nvSpPr>
        <p:spPr>
          <a:xfrm>
            <a:off x="550440" y="241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s externalidades y los derechos de propiedad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/>
          </p:nvPr>
        </p:nvSpPr>
        <p:spPr>
          <a:xfrm>
            <a:off x="1142640" y="1344600"/>
            <a:ext cx="800100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24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Una solución jurídica: las demandas por daños y perjuicios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Se concede a la fábrica el derecho a verter residuos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Los pescadores tienen tres opciones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2" marL="1131480" indent="-226080">
              <a:spcBef>
                <a:spcPts val="1049"/>
              </a:spcBef>
              <a:buClr>
                <a:srgbClr val="66669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Instalar una depuradora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Beneficio = 200$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1131480" indent="-226080">
              <a:spcBef>
                <a:spcPts val="1049"/>
              </a:spcBef>
              <a:buClr>
                <a:srgbClr val="66669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Instalar un filtro y pagar los daños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Beneficio = 300$ (500$ - 200$)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2" marL="1131480" indent="-226080">
              <a:spcBef>
                <a:spcPts val="1049"/>
              </a:spcBef>
              <a:buClr>
                <a:srgbClr val="66669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Ni instalar la depuradora, ni exigir el filtro: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3" marL="1584000" indent="-22608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Beneficio = 100$.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title"/>
          </p:nvPr>
        </p:nvSpPr>
        <p:spPr>
          <a:xfrm>
            <a:off x="550440" y="241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s externalidades y los derechos de propiedad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onclusión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demanda por daños y perjuicios garantiza un resultado eficiente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Cómo afectaría la información imperfecta a los resultados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title"/>
          </p:nvPr>
        </p:nvSpPr>
        <p:spPr>
          <a:xfrm>
            <a:off x="550440" y="24120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s externalidades y los derechos de propiedad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El teorema de Coase en la práctica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Negociar una solución eficiente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n 1987 los escapes de basura de Nueva York se extendieron (200 toneladas) por la costa de Nueva Jersey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coste potencial que suponía una demanda dio como resultado una solución mutuamente beneficiosa para ambas partes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Los recursos de propiedad común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Recurso de propiedad común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Todo el mundo tiene libre acces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s posible que se utilicen excesivamente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aire y el agu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pesca y la fauna 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extracción de mineral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5"/>
          <p:cNvSpPr/>
          <p:nvPr/>
        </p:nvSpPr>
        <p:spPr>
          <a:xfrm>
            <a:off x="2209680" y="1709640"/>
            <a:ext cx="0" cy="429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6"/>
          <p:cNvSpPr/>
          <p:nvPr/>
        </p:nvSpPr>
        <p:spPr>
          <a:xfrm>
            <a:off x="2225520" y="6013440"/>
            <a:ext cx="430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7"/>
          <p:cNvSpPr/>
          <p:nvPr/>
        </p:nvSpPr>
        <p:spPr>
          <a:xfrm>
            <a:off x="6586200" y="5921280"/>
            <a:ext cx="170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scado al 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8"/>
          <p:cNvSpPr/>
          <p:nvPr/>
        </p:nvSpPr>
        <p:spPr>
          <a:xfrm>
            <a:off x="730080" y="1600200"/>
            <a:ext cx="14526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cios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óla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 pescad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Group 23"/>
          <p:cNvGrpSpPr/>
          <p:nvPr/>
        </p:nvGrpSpPr>
        <p:grpSpPr>
          <a:xfrm>
            <a:off x="2211480" y="4157640"/>
            <a:ext cx="5307840" cy="363240"/>
            <a:chOff x="2211480" y="4157640"/>
            <a:chExt cx="5307840" cy="363240"/>
          </a:xfrm>
        </p:grpSpPr>
        <p:sp>
          <p:nvSpPr>
            <p:cNvPr id="1164" name="Line 9"/>
            <p:cNvSpPr/>
            <p:nvPr/>
          </p:nvSpPr>
          <p:spPr>
            <a:xfrm>
              <a:off x="2211480" y="4419720"/>
              <a:ext cx="403704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0"/>
            <p:cNvSpPr/>
            <p:nvPr/>
          </p:nvSpPr>
          <p:spPr>
            <a:xfrm>
              <a:off x="6310800" y="4157640"/>
              <a:ext cx="120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mand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Group 25"/>
          <p:cNvGrpSpPr/>
          <p:nvPr/>
        </p:nvGrpSpPr>
        <p:grpSpPr>
          <a:xfrm>
            <a:off x="2516040" y="1727280"/>
            <a:ext cx="6634080" cy="4571640"/>
            <a:chOff x="2516040" y="1727280"/>
            <a:chExt cx="6634080" cy="4571640"/>
          </a:xfrm>
        </p:grpSpPr>
        <p:sp>
          <p:nvSpPr>
            <p:cNvPr id="1167" name="Rectangle 16"/>
            <p:cNvSpPr/>
            <p:nvPr/>
          </p:nvSpPr>
          <p:spPr>
            <a:xfrm>
              <a:off x="6125040" y="1727280"/>
              <a:ext cx="3025080" cy="11545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n embargo, los costes privado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bestiman el coste verdadero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 nivel de eficiencia de la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sca mensual 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F*,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nd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M = BM (D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17"/>
            <p:cNvSpPr/>
            <p:nvPr/>
          </p:nvSpPr>
          <p:spPr>
            <a:xfrm flipV="1">
              <a:off x="2516040" y="2439720"/>
              <a:ext cx="2818080" cy="281772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18"/>
            <p:cNvSpPr/>
            <p:nvPr/>
          </p:nvSpPr>
          <p:spPr>
            <a:xfrm>
              <a:off x="3582720" y="1982880"/>
              <a:ext cx="2543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e social margin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Oval 19"/>
            <p:cNvSpPr/>
            <p:nvPr/>
          </p:nvSpPr>
          <p:spPr>
            <a:xfrm>
              <a:off x="3276720" y="4343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0"/>
            <p:cNvSpPr/>
            <p:nvPr/>
          </p:nvSpPr>
          <p:spPr>
            <a:xfrm>
              <a:off x="3352680" y="4497480"/>
              <a:ext cx="0" cy="1522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21"/>
            <p:cNvSpPr/>
            <p:nvPr/>
          </p:nvSpPr>
          <p:spPr>
            <a:xfrm>
              <a:off x="3186000" y="5935680"/>
              <a:ext cx="410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*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3" name="Group 24"/>
          <p:cNvGrpSpPr/>
          <p:nvPr/>
        </p:nvGrpSpPr>
        <p:grpSpPr>
          <a:xfrm>
            <a:off x="2973240" y="1092240"/>
            <a:ext cx="4296240" cy="5244120"/>
            <a:chOff x="2973240" y="1092240"/>
            <a:chExt cx="4296240" cy="5244120"/>
          </a:xfrm>
        </p:grpSpPr>
        <p:sp>
          <p:nvSpPr>
            <p:cNvPr id="1174" name="Line 11"/>
            <p:cNvSpPr/>
            <p:nvPr/>
          </p:nvSpPr>
          <p:spPr>
            <a:xfrm flipV="1">
              <a:off x="2973240" y="3506400"/>
              <a:ext cx="3579840" cy="197964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2"/>
            <p:cNvSpPr/>
            <p:nvPr/>
          </p:nvSpPr>
          <p:spPr>
            <a:xfrm>
              <a:off x="5564160" y="3049560"/>
              <a:ext cx="1705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e privad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Oval 13"/>
            <p:cNvSpPr/>
            <p:nvPr/>
          </p:nvSpPr>
          <p:spPr>
            <a:xfrm>
              <a:off x="4800600" y="4343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14"/>
            <p:cNvSpPr/>
            <p:nvPr/>
          </p:nvSpPr>
          <p:spPr>
            <a:xfrm>
              <a:off x="4876920" y="4497480"/>
              <a:ext cx="0" cy="1522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5"/>
            <p:cNvSpPr/>
            <p:nvPr/>
          </p:nvSpPr>
          <p:spPr>
            <a:xfrm>
              <a:off x="4716360" y="5935680"/>
              <a:ext cx="4176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22"/>
            <p:cNvSpPr/>
            <p:nvPr/>
          </p:nvSpPr>
          <p:spPr>
            <a:xfrm>
              <a:off x="3303000" y="1092240"/>
              <a:ext cx="2721960" cy="75744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n un control, el númer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pesca al mes 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C,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donde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P = BM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f7f7f"/>
                </a:solidFill>
                <a:latin typeface="Arial"/>
              </a:rPr>
              <a:t>Los recursos de propiedad común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Solución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Propiedad privad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Cuándo no es viable la propiedad privada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Arial"/>
              </a:rPr>
              <a:t>Los recursos de propiedad común</a:t>
            </a:r>
            <a:endParaRPr b="1" lang="en-US" sz="4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pesca de cangrejos de río en Louisiana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ómo hallar el nivel de eficiencia de capturas de cangrejos de rí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captura de cangrejos en millones de libras al añ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coste en dólares por libr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Demand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0,401 = 0,0064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CSM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-5,645 + 0,6509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Arial"/>
              </a:rPr>
              <a:t>CP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= -0,357 + 0,0573</a:t>
            </a: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pesca de cangrejos de río en Louisiana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coste extern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aso práctic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cería que vierte residuos a un rí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Todos los residuos de la acería se pueden reducir, produciendo menos  (función de producción de proporciones fijas)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aptura eficiente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9,2 millones de libra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Arial"/>
              </a:rPr>
              <a:t>D = CSM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title"/>
          </p:nvPr>
        </p:nvSpPr>
        <p:spPr>
          <a:xfrm>
            <a:off x="550800" y="19044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La pesca de cangrejos de río en Louisiana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5"/>
          <p:cNvSpPr/>
          <p:nvPr/>
        </p:nvSpPr>
        <p:spPr>
          <a:xfrm>
            <a:off x="2209680" y="1709640"/>
            <a:ext cx="0" cy="429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"/>
          <p:cNvSpPr/>
          <p:nvPr/>
        </p:nvSpPr>
        <p:spPr>
          <a:xfrm>
            <a:off x="2225520" y="6013440"/>
            <a:ext cx="430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7"/>
          <p:cNvSpPr/>
          <p:nvPr/>
        </p:nvSpPr>
        <p:spPr>
          <a:xfrm>
            <a:off x="6468120" y="5694480"/>
            <a:ext cx="2252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a de cangrej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illones de libra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8"/>
          <p:cNvSpPr/>
          <p:nvPr/>
        </p:nvSpPr>
        <p:spPr>
          <a:xfrm>
            <a:off x="1130400" y="1328760"/>
            <a:ext cx="12063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ólar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 libr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Group 36"/>
          <p:cNvGrpSpPr/>
          <p:nvPr/>
        </p:nvGrpSpPr>
        <p:grpSpPr>
          <a:xfrm>
            <a:off x="2360520" y="3405240"/>
            <a:ext cx="5158800" cy="1115640"/>
            <a:chOff x="2360520" y="3405240"/>
            <a:chExt cx="5158800" cy="1115640"/>
          </a:xfrm>
        </p:grpSpPr>
        <p:sp>
          <p:nvSpPr>
            <p:cNvPr id="1203" name="Line 10"/>
            <p:cNvSpPr/>
            <p:nvPr/>
          </p:nvSpPr>
          <p:spPr>
            <a:xfrm>
              <a:off x="2360520" y="3405240"/>
              <a:ext cx="3888000" cy="10144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1"/>
            <p:cNvSpPr/>
            <p:nvPr/>
          </p:nvSpPr>
          <p:spPr>
            <a:xfrm>
              <a:off x="6310800" y="4157640"/>
              <a:ext cx="120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mand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5" name="Group 35"/>
          <p:cNvGrpSpPr/>
          <p:nvPr/>
        </p:nvGrpSpPr>
        <p:grpSpPr>
          <a:xfrm>
            <a:off x="3382920" y="1744560"/>
            <a:ext cx="3949920" cy="3265200"/>
            <a:chOff x="3382920" y="1744560"/>
            <a:chExt cx="3949920" cy="3265200"/>
          </a:xfrm>
        </p:grpSpPr>
        <p:sp>
          <p:nvSpPr>
            <p:cNvPr id="1206" name="Line 14"/>
            <p:cNvSpPr/>
            <p:nvPr/>
          </p:nvSpPr>
          <p:spPr>
            <a:xfrm flipV="1">
              <a:off x="3382920" y="2212560"/>
              <a:ext cx="1854360" cy="266868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5"/>
            <p:cNvSpPr/>
            <p:nvPr/>
          </p:nvSpPr>
          <p:spPr>
            <a:xfrm>
              <a:off x="4271760" y="1744560"/>
              <a:ext cx="2543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e social marginal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0"/>
            <p:cNvSpPr/>
            <p:nvPr/>
          </p:nvSpPr>
          <p:spPr>
            <a:xfrm flipV="1">
              <a:off x="3762360" y="3657240"/>
              <a:ext cx="1914480" cy="135252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21"/>
            <p:cNvSpPr/>
            <p:nvPr/>
          </p:nvSpPr>
          <p:spPr>
            <a:xfrm>
              <a:off x="5627520" y="3300480"/>
              <a:ext cx="1705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ste privado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50440" y="279360"/>
            <a:ext cx="798372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Los cangrejos como un recurso de propiedad común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grpSp>
        <p:nvGrpSpPr>
          <p:cNvPr id="1211" name="Group 38"/>
          <p:cNvGrpSpPr/>
          <p:nvPr/>
        </p:nvGrpSpPr>
        <p:grpSpPr>
          <a:xfrm>
            <a:off x="1468440" y="2340000"/>
            <a:ext cx="3893760" cy="3953520"/>
            <a:chOff x="1468440" y="2340000"/>
            <a:chExt cx="3893760" cy="3953520"/>
          </a:xfrm>
        </p:grpSpPr>
        <p:sp>
          <p:nvSpPr>
            <p:cNvPr id="1212" name="Line 23"/>
            <p:cNvSpPr/>
            <p:nvPr/>
          </p:nvSpPr>
          <p:spPr>
            <a:xfrm>
              <a:off x="5065560" y="2490840"/>
              <a:ext cx="0" cy="35290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Oval 16"/>
            <p:cNvSpPr/>
            <p:nvPr/>
          </p:nvSpPr>
          <p:spPr>
            <a:xfrm>
              <a:off x="4981680" y="23763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17"/>
            <p:cNvSpPr/>
            <p:nvPr/>
          </p:nvSpPr>
          <p:spPr>
            <a:xfrm>
              <a:off x="4092480" y="3857760"/>
              <a:ext cx="0" cy="21621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Oval 22"/>
            <p:cNvSpPr/>
            <p:nvPr/>
          </p:nvSpPr>
          <p:spPr>
            <a:xfrm>
              <a:off x="4989600" y="4030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24"/>
            <p:cNvSpPr/>
            <p:nvPr/>
          </p:nvSpPr>
          <p:spPr>
            <a:xfrm>
              <a:off x="4786200" y="5961240"/>
              <a:ext cx="576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1,9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28"/>
            <p:cNvSpPr/>
            <p:nvPr/>
          </p:nvSpPr>
          <p:spPr>
            <a:xfrm>
              <a:off x="2212920" y="2467080"/>
              <a:ext cx="2813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29"/>
            <p:cNvSpPr/>
            <p:nvPr/>
          </p:nvSpPr>
          <p:spPr>
            <a:xfrm>
              <a:off x="1581120" y="2340000"/>
              <a:ext cx="576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,1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30"/>
            <p:cNvSpPr/>
            <p:nvPr/>
          </p:nvSpPr>
          <p:spPr>
            <a:xfrm>
              <a:off x="2212920" y="3855960"/>
              <a:ext cx="1873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Line 31"/>
            <p:cNvSpPr/>
            <p:nvPr/>
          </p:nvSpPr>
          <p:spPr>
            <a:xfrm>
              <a:off x="2212920" y="4094280"/>
              <a:ext cx="2813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Oval 32"/>
            <p:cNvSpPr/>
            <p:nvPr/>
          </p:nvSpPr>
          <p:spPr>
            <a:xfrm>
              <a:off x="4016520" y="3780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33"/>
            <p:cNvSpPr/>
            <p:nvPr/>
          </p:nvSpPr>
          <p:spPr>
            <a:xfrm>
              <a:off x="3848040" y="596124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,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34"/>
            <p:cNvSpPr/>
            <p:nvPr/>
          </p:nvSpPr>
          <p:spPr>
            <a:xfrm>
              <a:off x="1468440" y="393048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,32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os bienes públicos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Cuándo debe sustituir el Estado a las empresas como productor de bienes y servicios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/>
          </p:nvPr>
        </p:nvSpPr>
        <p:spPr>
          <a:xfrm>
            <a:off x="912600" y="1546200"/>
            <a:ext cx="75978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aracterísticas de los bienes públicos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83280" indent="-26280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No son rivale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51560" indent="-21024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Cualquiera que sea el nivel de producción, el coste marginal de suministrarlo a un consumidor adicional es cer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83280" indent="-26280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No son excluyente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051560" indent="-21024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No se puede excluir a los individuos de su consum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os bienes públicos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No todos los bienes que suministra el Estado son bienes públic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lgunos son rivales y otros son no excluyente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 educación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1225"/>
              </a:spcBef>
              <a:buClr>
                <a:srgbClr val="666699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os parques nacionale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os bienes públicos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Group 43"/>
          <p:cNvGrpSpPr/>
          <p:nvPr/>
        </p:nvGrpSpPr>
        <p:grpSpPr>
          <a:xfrm>
            <a:off x="2211480" y="1495440"/>
            <a:ext cx="5314320" cy="4524480"/>
            <a:chOff x="2211480" y="1495440"/>
            <a:chExt cx="5314320" cy="4524480"/>
          </a:xfrm>
        </p:grpSpPr>
        <p:sp>
          <p:nvSpPr>
            <p:cNvPr id="1241" name="Line 25"/>
            <p:cNvSpPr/>
            <p:nvPr/>
          </p:nvSpPr>
          <p:spPr>
            <a:xfrm>
              <a:off x="2211480" y="3963960"/>
              <a:ext cx="1751040" cy="20559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Line 26"/>
            <p:cNvSpPr/>
            <p:nvPr/>
          </p:nvSpPr>
          <p:spPr>
            <a:xfrm>
              <a:off x="2211480" y="2820960"/>
              <a:ext cx="1598400" cy="20559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Line 27"/>
            <p:cNvSpPr/>
            <p:nvPr/>
          </p:nvSpPr>
          <p:spPr>
            <a:xfrm>
              <a:off x="2251080" y="1525680"/>
              <a:ext cx="1558800" cy="33512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28"/>
            <p:cNvSpPr/>
            <p:nvPr/>
          </p:nvSpPr>
          <p:spPr>
            <a:xfrm>
              <a:off x="3811680" y="4878360"/>
              <a:ext cx="912600" cy="114156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29"/>
            <p:cNvSpPr/>
            <p:nvPr/>
          </p:nvSpPr>
          <p:spPr>
            <a:xfrm>
              <a:off x="3741120" y="5487840"/>
              <a:ext cx="3931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30"/>
            <p:cNvSpPr/>
            <p:nvPr/>
          </p:nvSpPr>
          <p:spPr>
            <a:xfrm>
              <a:off x="2217240" y="3201840"/>
              <a:ext cx="3931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31"/>
            <p:cNvSpPr/>
            <p:nvPr/>
          </p:nvSpPr>
          <p:spPr>
            <a:xfrm>
              <a:off x="3659040" y="4268880"/>
              <a:ext cx="327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41"/>
            <p:cNvSpPr/>
            <p:nvPr/>
          </p:nvSpPr>
          <p:spPr>
            <a:xfrm>
              <a:off x="3429360" y="1495440"/>
              <a:ext cx="4096440" cy="941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ando un bien no es rival, el beneficio social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rginal del consumo (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  se halla sumando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rticalmente las curvas de demand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viduales del bien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550800" y="228600"/>
            <a:ext cx="8593200" cy="78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Arial"/>
              </a:rPr>
              <a:t>Provisión eficiente de un bien público</a:t>
            </a:r>
            <a:endParaRPr b="1" lang="en-US" sz="36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52" name="Rectangle 5"/>
          <p:cNvSpPr/>
          <p:nvPr/>
        </p:nvSpPr>
        <p:spPr>
          <a:xfrm>
            <a:off x="3124080" y="6242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6"/>
          <p:cNvSpPr/>
          <p:nvPr/>
        </p:nvSpPr>
        <p:spPr>
          <a:xfrm>
            <a:off x="2209680" y="1525680"/>
            <a:ext cx="0" cy="447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7"/>
          <p:cNvSpPr/>
          <p:nvPr/>
        </p:nvSpPr>
        <p:spPr>
          <a:xfrm>
            <a:off x="2225520" y="6013440"/>
            <a:ext cx="4937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8"/>
          <p:cNvSpPr/>
          <p:nvPr/>
        </p:nvSpPr>
        <p:spPr>
          <a:xfrm>
            <a:off x="7254000" y="5888160"/>
            <a:ext cx="129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9"/>
          <p:cNvSpPr/>
          <p:nvPr/>
        </p:nvSpPr>
        <p:spPr>
          <a:xfrm>
            <a:off x="1981080" y="59817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10"/>
          <p:cNvSpPr/>
          <p:nvPr/>
        </p:nvSpPr>
        <p:spPr>
          <a:xfrm>
            <a:off x="891720" y="1387440"/>
            <a:ext cx="12056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óla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11"/>
          <p:cNvSpPr/>
          <p:nvPr/>
        </p:nvSpPr>
        <p:spPr>
          <a:xfrm>
            <a:off x="2414520" y="59817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12"/>
          <p:cNvSpPr/>
          <p:nvPr/>
        </p:nvSpPr>
        <p:spPr>
          <a:xfrm>
            <a:off x="2849400" y="59817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13"/>
          <p:cNvSpPr/>
          <p:nvPr/>
        </p:nvSpPr>
        <p:spPr>
          <a:xfrm>
            <a:off x="3282840" y="59817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14"/>
          <p:cNvSpPr/>
          <p:nvPr/>
        </p:nvSpPr>
        <p:spPr>
          <a:xfrm>
            <a:off x="3717720" y="59817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15"/>
          <p:cNvSpPr/>
          <p:nvPr/>
        </p:nvSpPr>
        <p:spPr>
          <a:xfrm>
            <a:off x="4152960" y="59817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16"/>
          <p:cNvSpPr/>
          <p:nvPr/>
        </p:nvSpPr>
        <p:spPr>
          <a:xfrm>
            <a:off x="4586040" y="59817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17"/>
          <p:cNvSpPr/>
          <p:nvPr/>
        </p:nvSpPr>
        <p:spPr>
          <a:xfrm>
            <a:off x="5021280" y="59817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18"/>
          <p:cNvSpPr/>
          <p:nvPr/>
        </p:nvSpPr>
        <p:spPr>
          <a:xfrm>
            <a:off x="5454720" y="59817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19"/>
          <p:cNvSpPr/>
          <p:nvPr/>
        </p:nvSpPr>
        <p:spPr>
          <a:xfrm>
            <a:off x="6324120" y="598176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20"/>
          <p:cNvSpPr/>
          <p:nvPr/>
        </p:nvSpPr>
        <p:spPr>
          <a:xfrm>
            <a:off x="5889600" y="598176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21"/>
          <p:cNvSpPr/>
          <p:nvPr/>
        </p:nvSpPr>
        <p:spPr>
          <a:xfrm>
            <a:off x="1371600" y="358128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,00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22"/>
          <p:cNvSpPr/>
          <p:nvPr/>
        </p:nvSpPr>
        <p:spPr>
          <a:xfrm>
            <a:off x="1371600" y="281952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50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23"/>
          <p:cNvSpPr/>
          <p:nvPr/>
        </p:nvSpPr>
        <p:spPr>
          <a:xfrm>
            <a:off x="1371600" y="213372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,00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1" name="Group 45"/>
          <p:cNvGrpSpPr/>
          <p:nvPr/>
        </p:nvGrpSpPr>
        <p:grpSpPr>
          <a:xfrm>
            <a:off x="2211480" y="2786040"/>
            <a:ext cx="5898240" cy="332280"/>
            <a:chOff x="2211480" y="2786040"/>
            <a:chExt cx="5898240" cy="332280"/>
          </a:xfrm>
        </p:grpSpPr>
        <p:sp>
          <p:nvSpPr>
            <p:cNvPr id="1272" name="Line 32"/>
            <p:cNvSpPr/>
            <p:nvPr/>
          </p:nvSpPr>
          <p:spPr>
            <a:xfrm>
              <a:off x="2211480" y="3048120"/>
              <a:ext cx="418932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33"/>
            <p:cNvSpPr/>
            <p:nvPr/>
          </p:nvSpPr>
          <p:spPr>
            <a:xfrm>
              <a:off x="6465240" y="2786040"/>
              <a:ext cx="1644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ste margina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Group 46"/>
          <p:cNvGrpSpPr/>
          <p:nvPr/>
        </p:nvGrpSpPr>
        <p:grpSpPr>
          <a:xfrm>
            <a:off x="1371600" y="2971800"/>
            <a:ext cx="5668920" cy="3047760"/>
            <a:chOff x="1371600" y="2971800"/>
            <a:chExt cx="5668920" cy="3047760"/>
          </a:xfrm>
        </p:grpSpPr>
        <p:sp>
          <p:nvSpPr>
            <p:cNvPr id="1275" name="Oval 36"/>
            <p:cNvSpPr/>
            <p:nvPr/>
          </p:nvSpPr>
          <p:spPr>
            <a:xfrm>
              <a:off x="2895480" y="48006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24"/>
            <p:cNvSpPr/>
            <p:nvPr/>
          </p:nvSpPr>
          <p:spPr>
            <a:xfrm>
              <a:off x="1371600" y="464832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,50$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Oval 34"/>
            <p:cNvSpPr/>
            <p:nvPr/>
          </p:nvSpPr>
          <p:spPr>
            <a:xfrm>
              <a:off x="2895480" y="2971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Oval 35"/>
            <p:cNvSpPr/>
            <p:nvPr/>
          </p:nvSpPr>
          <p:spPr>
            <a:xfrm>
              <a:off x="2895480" y="3733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37"/>
            <p:cNvSpPr/>
            <p:nvPr/>
          </p:nvSpPr>
          <p:spPr>
            <a:xfrm flipV="1">
              <a:off x="2971800" y="3049200"/>
              <a:ext cx="0" cy="2970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Line 38"/>
            <p:cNvSpPr/>
            <p:nvPr/>
          </p:nvSpPr>
          <p:spPr>
            <a:xfrm>
              <a:off x="2211480" y="380988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Line 39"/>
            <p:cNvSpPr/>
            <p:nvPr/>
          </p:nvSpPr>
          <p:spPr>
            <a:xfrm>
              <a:off x="2211480" y="487692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40"/>
            <p:cNvSpPr/>
            <p:nvPr/>
          </p:nvSpPr>
          <p:spPr>
            <a:xfrm>
              <a:off x="4134240" y="3629160"/>
              <a:ext cx="2906280" cy="9414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a producción eficiente se d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ando CM = BM en 2 unidades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producción. BM e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,50$ + 4,00$ ó 5,50$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/>
          </p:nvPr>
        </p:nvSpPr>
        <p:spPr>
          <a:xfrm>
            <a:off x="1164960" y="1488600"/>
            <a:ext cx="7545240" cy="42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os parásit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62626"/>
                </a:solidFill>
                <a:latin typeface="Arial"/>
              </a:rPr>
              <a:t>No es posible suministrar algunos bienes y servicios sin beneficiar a todo el mundo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s familias no tienen incentivos para pagar lo que realmente vale para ellas el programa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os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parásitos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 (individuos) subestiman el valor de un bien o servicio con el fin de poder disfrutar de sus beneficios sin pagarlos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os bienes públicos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stablecer una empresa de erradicación de mosquito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Cómo mediría el nivel de producción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A quién cobraría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Un medidor de mosquitos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os bienes públicos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a demanda de aire limp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l aire limpio es un bien públic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No excluyente y no rival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¿Cuál es el precio del aire limpio?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Elegir dónde vivir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Un estudio realizado en Boston correlaciona los precios de la vivienda con la calidad del aire y otras características de las viviendas y de su entorno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a demanda de aire limp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Caso práctico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coste externo marginal (CEM) es el coste impuesto a los pescadores en cada nivel de producción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El coste social marginal (CSM) es la suma del coste marginal de producción (CM) y el coste externo marginal (CEM)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coste extern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La demanda de aire puro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06" name="Rectangle 5"/>
          <p:cNvSpPr/>
          <p:nvPr/>
        </p:nvSpPr>
        <p:spPr>
          <a:xfrm>
            <a:off x="3124080" y="6242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6"/>
          <p:cNvSpPr/>
          <p:nvPr/>
        </p:nvSpPr>
        <p:spPr>
          <a:xfrm>
            <a:off x="2209680" y="1709640"/>
            <a:ext cx="0" cy="429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7"/>
          <p:cNvSpPr/>
          <p:nvPr/>
        </p:nvSpPr>
        <p:spPr>
          <a:xfrm>
            <a:off x="2225520" y="6013440"/>
            <a:ext cx="4937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8"/>
          <p:cNvSpPr/>
          <p:nvPr/>
        </p:nvSpPr>
        <p:spPr>
          <a:xfrm>
            <a:off x="7117920" y="5651640"/>
            <a:ext cx="2092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Óxido de nitrógeno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ph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9"/>
          <p:cNvSpPr/>
          <p:nvPr/>
        </p:nvSpPr>
        <p:spPr>
          <a:xfrm>
            <a:off x="190476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10"/>
          <p:cNvSpPr/>
          <p:nvPr/>
        </p:nvSpPr>
        <p:spPr>
          <a:xfrm>
            <a:off x="1328760" y="1461960"/>
            <a:ext cx="92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óla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11"/>
          <p:cNvSpPr/>
          <p:nvPr/>
        </p:nvSpPr>
        <p:spPr>
          <a:xfrm>
            <a:off x="243828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Rectangle 12"/>
          <p:cNvSpPr/>
          <p:nvPr/>
        </p:nvSpPr>
        <p:spPr>
          <a:xfrm>
            <a:off x="289548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Rectangle 13"/>
          <p:cNvSpPr/>
          <p:nvPr/>
        </p:nvSpPr>
        <p:spPr>
          <a:xfrm>
            <a:off x="335268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Rectangle 14"/>
          <p:cNvSpPr/>
          <p:nvPr/>
        </p:nvSpPr>
        <p:spPr>
          <a:xfrm>
            <a:off x="380988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15"/>
          <p:cNvSpPr/>
          <p:nvPr/>
        </p:nvSpPr>
        <p:spPr>
          <a:xfrm>
            <a:off x="426708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16"/>
          <p:cNvSpPr/>
          <p:nvPr/>
        </p:nvSpPr>
        <p:spPr>
          <a:xfrm>
            <a:off x="472428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Rectangle 17"/>
          <p:cNvSpPr/>
          <p:nvPr/>
        </p:nvSpPr>
        <p:spPr>
          <a:xfrm>
            <a:off x="518148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Rectangle 18"/>
          <p:cNvSpPr/>
          <p:nvPr/>
        </p:nvSpPr>
        <p:spPr>
          <a:xfrm>
            <a:off x="563868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19"/>
          <p:cNvSpPr/>
          <p:nvPr/>
        </p:nvSpPr>
        <p:spPr>
          <a:xfrm>
            <a:off x="6552720" y="594360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20"/>
          <p:cNvSpPr/>
          <p:nvPr/>
        </p:nvSpPr>
        <p:spPr>
          <a:xfrm>
            <a:off x="6095880" y="5943600"/>
            <a:ext cx="29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21"/>
          <p:cNvSpPr/>
          <p:nvPr/>
        </p:nvSpPr>
        <p:spPr>
          <a:xfrm>
            <a:off x="1447920" y="320040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2"/>
          <p:cNvSpPr/>
          <p:nvPr/>
        </p:nvSpPr>
        <p:spPr>
          <a:xfrm>
            <a:off x="1447920" y="251460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Rectangle 23"/>
          <p:cNvSpPr/>
          <p:nvPr/>
        </p:nvSpPr>
        <p:spPr>
          <a:xfrm>
            <a:off x="1447920" y="182880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Rectangle 24"/>
          <p:cNvSpPr/>
          <p:nvPr/>
        </p:nvSpPr>
        <p:spPr>
          <a:xfrm>
            <a:off x="1599840" y="5257800"/>
            <a:ext cx="51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25"/>
          <p:cNvSpPr/>
          <p:nvPr/>
        </p:nvSpPr>
        <p:spPr>
          <a:xfrm>
            <a:off x="1447920" y="388620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26"/>
          <p:cNvSpPr/>
          <p:nvPr/>
        </p:nvSpPr>
        <p:spPr>
          <a:xfrm>
            <a:off x="1447920" y="4572000"/>
            <a:ext cx="68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8" name="Group 33"/>
          <p:cNvGrpSpPr/>
          <p:nvPr/>
        </p:nvGrpSpPr>
        <p:grpSpPr>
          <a:xfrm>
            <a:off x="3127320" y="1601640"/>
            <a:ext cx="4798800" cy="4040280"/>
            <a:chOff x="3127320" y="1601640"/>
            <a:chExt cx="4798800" cy="4040280"/>
          </a:xfrm>
        </p:grpSpPr>
        <p:sp>
          <p:nvSpPr>
            <p:cNvPr id="1329" name="Freeform 27"/>
            <p:cNvSpPr/>
            <p:nvPr/>
          </p:nvSpPr>
          <p:spPr>
            <a:xfrm>
              <a:off x="3127320" y="4043520"/>
              <a:ext cx="3200400" cy="1598400"/>
            </a:xfrm>
            <a:custGeom>
              <a:avLst/>
              <a:gdLst>
                <a:gd name="textAreaLeft" fmla="*/ 0 w 3200400"/>
                <a:gd name="textAreaRight" fmla="*/ 3200760 w 3200400"/>
                <a:gd name="textAreaTop" fmla="*/ 0 h 1598400"/>
                <a:gd name="textAreaBottom" fmla="*/ 1598760 h 1598400"/>
              </a:gdLst>
              <a:ahLst/>
              <a:rect l="textAreaLeft" t="textAreaTop" r="textAreaRight" b="textAreaBottom"/>
              <a:pathLst>
                <a:path w="2016" h="1007">
                  <a:moveTo>
                    <a:pt x="0" y="1006"/>
                  </a:moveTo>
                  <a:lnTo>
                    <a:pt x="268" y="830"/>
                  </a:lnTo>
                  <a:lnTo>
                    <a:pt x="536" y="665"/>
                  </a:lnTo>
                  <a:lnTo>
                    <a:pt x="797" y="506"/>
                  </a:lnTo>
                  <a:lnTo>
                    <a:pt x="925" y="432"/>
                  </a:lnTo>
                  <a:lnTo>
                    <a:pt x="1052" y="369"/>
                  </a:lnTo>
                  <a:lnTo>
                    <a:pt x="1180" y="307"/>
                  </a:lnTo>
                  <a:lnTo>
                    <a:pt x="1301" y="256"/>
                  </a:lnTo>
                  <a:lnTo>
                    <a:pt x="1543" y="159"/>
                  </a:lnTo>
                  <a:lnTo>
                    <a:pt x="1779" y="74"/>
                  </a:lnTo>
                  <a:lnTo>
                    <a:pt x="2015" y="0"/>
                  </a:lnTo>
                </a:path>
              </a:pathLst>
            </a:custGeom>
            <a:noFill/>
            <a:ln cap="rnd" w="507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28"/>
            <p:cNvSpPr/>
            <p:nvPr/>
          </p:nvSpPr>
          <p:spPr>
            <a:xfrm>
              <a:off x="3127320" y="2970360"/>
              <a:ext cx="3200400" cy="2366640"/>
            </a:xfrm>
            <a:custGeom>
              <a:avLst/>
              <a:gdLst>
                <a:gd name="textAreaLeft" fmla="*/ 0 w 3200400"/>
                <a:gd name="textAreaRight" fmla="*/ 3200760 w 3200400"/>
                <a:gd name="textAreaTop" fmla="*/ 0 h 2366640"/>
                <a:gd name="textAreaBottom" fmla="*/ 2367000 h 2366640"/>
              </a:gdLst>
              <a:ahLst/>
              <a:rect l="textAreaLeft" t="textAreaTop" r="textAreaRight" b="textAreaBottom"/>
              <a:pathLst>
                <a:path w="2016" h="1491">
                  <a:moveTo>
                    <a:pt x="0" y="1490"/>
                  </a:moveTo>
                  <a:lnTo>
                    <a:pt x="268" y="1232"/>
                  </a:lnTo>
                  <a:lnTo>
                    <a:pt x="536" y="979"/>
                  </a:lnTo>
                  <a:lnTo>
                    <a:pt x="670" y="861"/>
                  </a:lnTo>
                  <a:lnTo>
                    <a:pt x="797" y="753"/>
                  </a:lnTo>
                  <a:lnTo>
                    <a:pt x="925" y="646"/>
                  </a:lnTo>
                  <a:lnTo>
                    <a:pt x="1052" y="549"/>
                  </a:lnTo>
                  <a:lnTo>
                    <a:pt x="1180" y="463"/>
                  </a:lnTo>
                  <a:lnTo>
                    <a:pt x="1301" y="382"/>
                  </a:lnTo>
                  <a:lnTo>
                    <a:pt x="1422" y="307"/>
                  </a:lnTo>
                  <a:lnTo>
                    <a:pt x="1543" y="237"/>
                  </a:lnTo>
                  <a:lnTo>
                    <a:pt x="1779" y="113"/>
                  </a:lnTo>
                  <a:lnTo>
                    <a:pt x="2015" y="0"/>
                  </a:lnTo>
                </a:path>
              </a:pathLst>
            </a:custGeom>
            <a:noFill/>
            <a:ln cap="rnd" w="507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29"/>
            <p:cNvSpPr/>
            <p:nvPr/>
          </p:nvSpPr>
          <p:spPr>
            <a:xfrm>
              <a:off x="3127320" y="1832040"/>
              <a:ext cx="3200400" cy="3124080"/>
            </a:xfrm>
            <a:custGeom>
              <a:avLst/>
              <a:gdLst>
                <a:gd name="textAreaLeft" fmla="*/ 0 w 3200400"/>
                <a:gd name="textAreaRight" fmla="*/ 3200760 w 3200400"/>
                <a:gd name="textAreaTop" fmla="*/ 0 h 3124080"/>
                <a:gd name="textAreaBottom" fmla="*/ 3124440 h 3124080"/>
              </a:gdLst>
              <a:ahLst/>
              <a:rect l="textAreaLeft" t="textAreaTop" r="textAreaRight" b="textAreaBottom"/>
              <a:pathLst>
                <a:path w="2016" h="1968">
                  <a:moveTo>
                    <a:pt x="0" y="1967"/>
                  </a:moveTo>
                  <a:lnTo>
                    <a:pt x="268" y="1627"/>
                  </a:lnTo>
                  <a:lnTo>
                    <a:pt x="402" y="1458"/>
                  </a:lnTo>
                  <a:lnTo>
                    <a:pt x="536" y="1298"/>
                  </a:lnTo>
                  <a:lnTo>
                    <a:pt x="670" y="1143"/>
                  </a:lnTo>
                  <a:lnTo>
                    <a:pt x="797" y="993"/>
                  </a:lnTo>
                  <a:lnTo>
                    <a:pt x="925" y="853"/>
                  </a:lnTo>
                  <a:lnTo>
                    <a:pt x="1052" y="724"/>
                  </a:lnTo>
                  <a:lnTo>
                    <a:pt x="1180" y="604"/>
                  </a:lnTo>
                  <a:lnTo>
                    <a:pt x="1301" y="499"/>
                  </a:lnTo>
                  <a:lnTo>
                    <a:pt x="1422" y="404"/>
                  </a:lnTo>
                  <a:lnTo>
                    <a:pt x="1543" y="314"/>
                  </a:lnTo>
                  <a:lnTo>
                    <a:pt x="1664" y="229"/>
                  </a:lnTo>
                  <a:lnTo>
                    <a:pt x="1779" y="149"/>
                  </a:lnTo>
                  <a:lnTo>
                    <a:pt x="2015" y="0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30"/>
            <p:cNvSpPr/>
            <p:nvPr/>
          </p:nvSpPr>
          <p:spPr>
            <a:xfrm>
              <a:off x="6386400" y="3852720"/>
              <a:ext cx="1336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nta baj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31"/>
            <p:cNvSpPr/>
            <p:nvPr/>
          </p:nvSpPr>
          <p:spPr>
            <a:xfrm>
              <a:off x="6386760" y="2820960"/>
              <a:ext cx="1539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nta medi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32"/>
            <p:cNvSpPr/>
            <p:nvPr/>
          </p:nvSpPr>
          <p:spPr>
            <a:xfrm>
              <a:off x="6386760" y="1601640"/>
              <a:ext cx="1272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nta alt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a demanda de aire limpi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837720" y="1328760"/>
            <a:ext cx="8001000" cy="445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24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Resultados: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705600" indent="-271440">
              <a:spcBef>
                <a:spcPts val="11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62626"/>
                </a:solidFill>
                <a:latin typeface="Arial"/>
              </a:rPr>
              <a:t>El número de personas dispuestas a pagar por el aire limpio aumenta sustancialmente conforme aumenta la contaminación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05600" indent="-271440">
              <a:spcBef>
                <a:spcPts val="11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Las familias de renta más alta están dispuestas a pagar más (</a:t>
            </a:r>
            <a:r>
              <a:rPr b="0" lang="es-ES_tradnl" sz="2400" spc="-1" strike="noStrike">
                <a:solidFill>
                  <a:srgbClr val="262626"/>
                </a:solidFill>
                <a:latin typeface="Arial"/>
              </a:rPr>
              <a:t>aumenta la distancia entre las curvas de demanda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  <a:p>
            <a:pPr lvl="1" marL="705600" indent="-271440">
              <a:spcBef>
                <a:spcPts val="11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Un estudio de la National Academy of Sciences mostró que una reducción del 10 por ciento de las emisiones de los automóviles produciría un beneficio de 2.000 millones de dólares (superior a los costes).</a:t>
            </a:r>
            <a:endParaRPr b="0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s preferencias privadas por los bienes públic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producción pública de un bien público es ventajosa porque el Estado puede evaluar los impuestos o las tasas que deben cobrarse por ellos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Resulta difícil averiguar la cantidad que debe proporcionarse de un bien público cuando hay parásitos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550440" y="26640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Determinación del nivel de gasto en educación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349" name="Rectangle 5"/>
          <p:cNvSpPr/>
          <p:nvPr/>
        </p:nvSpPr>
        <p:spPr>
          <a:xfrm>
            <a:off x="3124080" y="6242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6"/>
          <p:cNvSpPr/>
          <p:nvPr/>
        </p:nvSpPr>
        <p:spPr>
          <a:xfrm>
            <a:off x="2209680" y="1709640"/>
            <a:ext cx="0" cy="429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7"/>
          <p:cNvSpPr/>
          <p:nvPr/>
        </p:nvSpPr>
        <p:spPr>
          <a:xfrm>
            <a:off x="2200320" y="6013440"/>
            <a:ext cx="493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8"/>
          <p:cNvSpPr/>
          <p:nvPr/>
        </p:nvSpPr>
        <p:spPr>
          <a:xfrm>
            <a:off x="7093440" y="5737320"/>
            <a:ext cx="1972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stos en educ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alum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Rectangle 9"/>
          <p:cNvSpPr/>
          <p:nvPr/>
        </p:nvSpPr>
        <p:spPr>
          <a:xfrm>
            <a:off x="1904760" y="598176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10"/>
          <p:cNvSpPr/>
          <p:nvPr/>
        </p:nvSpPr>
        <p:spPr>
          <a:xfrm>
            <a:off x="981360" y="1447920"/>
            <a:ext cx="1190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posi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paga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11"/>
          <p:cNvSpPr/>
          <p:nvPr/>
        </p:nvSpPr>
        <p:spPr>
          <a:xfrm>
            <a:off x="3809880" y="5978520"/>
            <a:ext cx="943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00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Rectangle 12"/>
          <p:cNvSpPr/>
          <p:nvPr/>
        </p:nvSpPr>
        <p:spPr>
          <a:xfrm>
            <a:off x="2704680" y="598176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0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Rectangle 13"/>
          <p:cNvSpPr/>
          <p:nvPr/>
        </p:nvSpPr>
        <p:spPr>
          <a:xfrm>
            <a:off x="5067360" y="5978520"/>
            <a:ext cx="94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800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Rectangle 14"/>
          <p:cNvSpPr/>
          <p:nvPr/>
        </p:nvSpPr>
        <p:spPr>
          <a:xfrm>
            <a:off x="6324480" y="5978520"/>
            <a:ext cx="943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400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15"/>
          <p:cNvSpPr/>
          <p:nvPr/>
        </p:nvSpPr>
        <p:spPr>
          <a:xfrm flipV="1">
            <a:off x="2211480" y="4954320"/>
            <a:ext cx="988920" cy="1065240"/>
          </a:xfrm>
          <a:prstGeom prst="line">
            <a:avLst/>
          </a:prstGeom>
          <a:ln w="507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16"/>
          <p:cNvSpPr/>
          <p:nvPr/>
        </p:nvSpPr>
        <p:spPr>
          <a:xfrm>
            <a:off x="3201840" y="4954680"/>
            <a:ext cx="3579840" cy="1065240"/>
          </a:xfrm>
          <a:prstGeom prst="line">
            <a:avLst/>
          </a:prstGeom>
          <a:ln w="507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17"/>
          <p:cNvSpPr/>
          <p:nvPr/>
        </p:nvSpPr>
        <p:spPr>
          <a:xfrm>
            <a:off x="3232080" y="4729320"/>
            <a:ext cx="3729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18"/>
          <p:cNvSpPr/>
          <p:nvPr/>
        </p:nvSpPr>
        <p:spPr>
          <a:xfrm flipV="1">
            <a:off x="2211480" y="4954320"/>
            <a:ext cx="2284200" cy="1065240"/>
          </a:xfrm>
          <a:prstGeom prst="line">
            <a:avLst/>
          </a:prstGeom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19"/>
          <p:cNvSpPr/>
          <p:nvPr/>
        </p:nvSpPr>
        <p:spPr>
          <a:xfrm>
            <a:off x="4421160" y="4954680"/>
            <a:ext cx="2360520" cy="1065240"/>
          </a:xfrm>
          <a:prstGeom prst="line">
            <a:avLst/>
          </a:prstGeom>
          <a:ln w="507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ctangle 20"/>
          <p:cNvSpPr/>
          <p:nvPr/>
        </p:nvSpPr>
        <p:spPr>
          <a:xfrm>
            <a:off x="4652280" y="4729320"/>
            <a:ext cx="367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21"/>
          <p:cNvSpPr/>
          <p:nvPr/>
        </p:nvSpPr>
        <p:spPr>
          <a:xfrm flipV="1">
            <a:off x="2211480" y="4954320"/>
            <a:ext cx="3427200" cy="106524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22"/>
          <p:cNvSpPr/>
          <p:nvPr/>
        </p:nvSpPr>
        <p:spPr>
          <a:xfrm>
            <a:off x="5640480" y="4954680"/>
            <a:ext cx="1065240" cy="106524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23"/>
          <p:cNvSpPr/>
          <p:nvPr/>
        </p:nvSpPr>
        <p:spPr>
          <a:xfrm>
            <a:off x="5703840" y="4730760"/>
            <a:ext cx="3729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Group 35"/>
          <p:cNvGrpSpPr/>
          <p:nvPr/>
        </p:nvGrpSpPr>
        <p:grpSpPr>
          <a:xfrm>
            <a:off x="2211480" y="2987640"/>
            <a:ext cx="4570200" cy="3032280"/>
            <a:chOff x="2211480" y="2987640"/>
            <a:chExt cx="4570200" cy="3032280"/>
          </a:xfrm>
        </p:grpSpPr>
        <p:sp>
          <p:nvSpPr>
            <p:cNvPr id="1369" name="Line 28"/>
            <p:cNvSpPr/>
            <p:nvPr/>
          </p:nvSpPr>
          <p:spPr>
            <a:xfrm flipV="1">
              <a:off x="3201840" y="3201480"/>
              <a:ext cx="1293840" cy="60804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Line 24"/>
            <p:cNvSpPr/>
            <p:nvPr/>
          </p:nvSpPr>
          <p:spPr>
            <a:xfrm flipV="1">
              <a:off x="3200400" y="381168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25"/>
            <p:cNvSpPr/>
            <p:nvPr/>
          </p:nvSpPr>
          <p:spPr>
            <a:xfrm flipV="1">
              <a:off x="4495680" y="3201840"/>
              <a:ext cx="0" cy="2818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26"/>
            <p:cNvSpPr/>
            <p:nvPr/>
          </p:nvSpPr>
          <p:spPr>
            <a:xfrm flipV="1">
              <a:off x="5638680" y="381168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Line 27"/>
            <p:cNvSpPr/>
            <p:nvPr/>
          </p:nvSpPr>
          <p:spPr>
            <a:xfrm flipV="1">
              <a:off x="2211480" y="3811680"/>
              <a:ext cx="988920" cy="220824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Line 29"/>
            <p:cNvSpPr/>
            <p:nvPr/>
          </p:nvSpPr>
          <p:spPr>
            <a:xfrm>
              <a:off x="4497480" y="3201840"/>
              <a:ext cx="1141200" cy="60804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Line 30"/>
            <p:cNvSpPr/>
            <p:nvPr/>
          </p:nvSpPr>
          <p:spPr>
            <a:xfrm>
              <a:off x="5640480" y="3811680"/>
              <a:ext cx="1141200" cy="220824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31"/>
            <p:cNvSpPr/>
            <p:nvPr/>
          </p:nvSpPr>
          <p:spPr>
            <a:xfrm>
              <a:off x="4862880" y="2987640"/>
              <a:ext cx="437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Rectangle 32"/>
          <p:cNvSpPr/>
          <p:nvPr/>
        </p:nvSpPr>
        <p:spPr>
          <a:xfrm>
            <a:off x="3043440" y="1766880"/>
            <a:ext cx="3601440" cy="72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 nivel eficiente de gasto en educació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 halla sumando la disposición de t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udadanos a pagar la educació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2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Rectangle 5"/>
          <p:cNvSpPr/>
          <p:nvPr/>
        </p:nvSpPr>
        <p:spPr>
          <a:xfrm>
            <a:off x="3124080" y="6242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6"/>
          <p:cNvSpPr/>
          <p:nvPr/>
        </p:nvSpPr>
        <p:spPr>
          <a:xfrm>
            <a:off x="2209680" y="1709640"/>
            <a:ext cx="0" cy="429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Line 7"/>
          <p:cNvSpPr/>
          <p:nvPr/>
        </p:nvSpPr>
        <p:spPr>
          <a:xfrm>
            <a:off x="2200320" y="6013440"/>
            <a:ext cx="493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Rectangle 9"/>
          <p:cNvSpPr/>
          <p:nvPr/>
        </p:nvSpPr>
        <p:spPr>
          <a:xfrm>
            <a:off x="1904760" y="5981760"/>
            <a:ext cx="40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ctangle 11"/>
          <p:cNvSpPr/>
          <p:nvPr/>
        </p:nvSpPr>
        <p:spPr>
          <a:xfrm>
            <a:off x="3809880" y="5978520"/>
            <a:ext cx="943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00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Rectangle 12"/>
          <p:cNvSpPr/>
          <p:nvPr/>
        </p:nvSpPr>
        <p:spPr>
          <a:xfrm>
            <a:off x="2704680" y="5981760"/>
            <a:ext cx="63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0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13"/>
          <p:cNvSpPr/>
          <p:nvPr/>
        </p:nvSpPr>
        <p:spPr>
          <a:xfrm>
            <a:off x="5067360" y="5978520"/>
            <a:ext cx="94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800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Rectangle 14"/>
          <p:cNvSpPr/>
          <p:nvPr/>
        </p:nvSpPr>
        <p:spPr>
          <a:xfrm>
            <a:off x="6324480" y="5978520"/>
            <a:ext cx="943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400$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9" name="Group 15"/>
          <p:cNvGrpSpPr/>
          <p:nvPr/>
        </p:nvGrpSpPr>
        <p:grpSpPr>
          <a:xfrm>
            <a:off x="2211480" y="4729320"/>
            <a:ext cx="4570200" cy="1290600"/>
            <a:chOff x="2211480" y="4729320"/>
            <a:chExt cx="4570200" cy="1290600"/>
          </a:xfrm>
        </p:grpSpPr>
        <p:sp>
          <p:nvSpPr>
            <p:cNvPr id="1390" name="Line 16"/>
            <p:cNvSpPr/>
            <p:nvPr/>
          </p:nvSpPr>
          <p:spPr>
            <a:xfrm flipV="1">
              <a:off x="2211480" y="4954320"/>
              <a:ext cx="988920" cy="1065240"/>
            </a:xfrm>
            <a:prstGeom prst="line">
              <a:avLst/>
            </a:prstGeom>
            <a:ln w="507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17"/>
            <p:cNvSpPr/>
            <p:nvPr/>
          </p:nvSpPr>
          <p:spPr>
            <a:xfrm>
              <a:off x="3201840" y="4954680"/>
              <a:ext cx="3579840" cy="1065240"/>
            </a:xfrm>
            <a:prstGeom prst="line">
              <a:avLst/>
            </a:prstGeom>
            <a:ln w="507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Rectangle 18"/>
            <p:cNvSpPr/>
            <p:nvPr/>
          </p:nvSpPr>
          <p:spPr>
            <a:xfrm>
              <a:off x="3234600" y="4729320"/>
              <a:ext cx="3675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Line 19"/>
            <p:cNvSpPr/>
            <p:nvPr/>
          </p:nvSpPr>
          <p:spPr>
            <a:xfrm flipV="1">
              <a:off x="2211480" y="4954320"/>
              <a:ext cx="2284200" cy="1065240"/>
            </a:xfrm>
            <a:prstGeom prst="line">
              <a:avLst/>
            </a:prstGeom>
            <a:ln w="507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Line 20"/>
            <p:cNvSpPr/>
            <p:nvPr/>
          </p:nvSpPr>
          <p:spPr>
            <a:xfrm>
              <a:off x="4421160" y="4954680"/>
              <a:ext cx="2360520" cy="1065240"/>
            </a:xfrm>
            <a:prstGeom prst="line">
              <a:avLst/>
            </a:prstGeom>
            <a:ln w="507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Rectangle 21"/>
            <p:cNvSpPr/>
            <p:nvPr/>
          </p:nvSpPr>
          <p:spPr>
            <a:xfrm>
              <a:off x="4652280" y="4729320"/>
              <a:ext cx="3675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Line 22"/>
            <p:cNvSpPr/>
            <p:nvPr/>
          </p:nvSpPr>
          <p:spPr>
            <a:xfrm flipV="1">
              <a:off x="2211480" y="4954320"/>
              <a:ext cx="3427200" cy="10652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Line 23"/>
            <p:cNvSpPr/>
            <p:nvPr/>
          </p:nvSpPr>
          <p:spPr>
            <a:xfrm>
              <a:off x="5640480" y="4954680"/>
              <a:ext cx="1065240" cy="10652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Rectangle 24"/>
            <p:cNvSpPr/>
            <p:nvPr/>
          </p:nvSpPr>
          <p:spPr>
            <a:xfrm>
              <a:off x="5706360" y="4730760"/>
              <a:ext cx="36756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9" name="Group 25"/>
          <p:cNvGrpSpPr/>
          <p:nvPr/>
        </p:nvGrpSpPr>
        <p:grpSpPr>
          <a:xfrm>
            <a:off x="2211480" y="2987640"/>
            <a:ext cx="4570200" cy="3032280"/>
            <a:chOff x="2211480" y="2987640"/>
            <a:chExt cx="4570200" cy="3032280"/>
          </a:xfrm>
        </p:grpSpPr>
        <p:sp>
          <p:nvSpPr>
            <p:cNvPr id="1400" name="Line 26"/>
            <p:cNvSpPr/>
            <p:nvPr/>
          </p:nvSpPr>
          <p:spPr>
            <a:xfrm flipV="1">
              <a:off x="3201840" y="3201480"/>
              <a:ext cx="1293840" cy="60804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27"/>
            <p:cNvSpPr/>
            <p:nvPr/>
          </p:nvSpPr>
          <p:spPr>
            <a:xfrm flipV="1">
              <a:off x="3200400" y="381168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28"/>
            <p:cNvSpPr/>
            <p:nvPr/>
          </p:nvSpPr>
          <p:spPr>
            <a:xfrm flipV="1">
              <a:off x="4495680" y="3201840"/>
              <a:ext cx="0" cy="2818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Line 29"/>
            <p:cNvSpPr/>
            <p:nvPr/>
          </p:nvSpPr>
          <p:spPr>
            <a:xfrm flipV="1">
              <a:off x="5638680" y="381168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Line 30"/>
            <p:cNvSpPr/>
            <p:nvPr/>
          </p:nvSpPr>
          <p:spPr>
            <a:xfrm flipV="1">
              <a:off x="2211480" y="3811680"/>
              <a:ext cx="988920" cy="220824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31"/>
            <p:cNvSpPr/>
            <p:nvPr/>
          </p:nvSpPr>
          <p:spPr>
            <a:xfrm>
              <a:off x="4497480" y="3201840"/>
              <a:ext cx="1141200" cy="60804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32"/>
            <p:cNvSpPr/>
            <p:nvPr/>
          </p:nvSpPr>
          <p:spPr>
            <a:xfrm>
              <a:off x="5640480" y="3811680"/>
              <a:ext cx="1141200" cy="2208240"/>
            </a:xfrm>
            <a:prstGeom prst="line">
              <a:avLst/>
            </a:prstGeom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Rectangle 33"/>
            <p:cNvSpPr/>
            <p:nvPr/>
          </p:nvSpPr>
          <p:spPr>
            <a:xfrm>
              <a:off x="4862880" y="2987640"/>
              <a:ext cx="437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Rectangle 34"/>
          <p:cNvSpPr/>
          <p:nvPr/>
        </p:nvSpPr>
        <p:spPr>
          <a:xfrm>
            <a:off x="2519640" y="1709640"/>
            <a:ext cx="6193800" cy="1212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¿Lograría el sistema de votación por mayoría el resultado eficiente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votará a favor de 600 dólar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y D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votarán a favor de 1.200 dólar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 el sistema de votación por mayoría, el nivel de gasto que prefiere 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tante medio siempre venc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50440" y="26640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Determinación del nivel de gasto en educación</a:t>
            </a:r>
            <a:endParaRPr b="1" lang="en-US" sz="32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10" name="Rectangle 37"/>
          <p:cNvSpPr/>
          <p:nvPr/>
        </p:nvSpPr>
        <p:spPr>
          <a:xfrm>
            <a:off x="7093440" y="5737320"/>
            <a:ext cx="1972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stos en educ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alum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38"/>
          <p:cNvSpPr/>
          <p:nvPr/>
        </p:nvSpPr>
        <p:spPr>
          <a:xfrm>
            <a:off x="981360" y="1447920"/>
            <a:ext cx="1190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posi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paga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/>
          </p:nvPr>
        </p:nvSpPr>
        <p:spPr>
          <a:xfrm>
            <a:off x="1134720" y="1353600"/>
            <a:ext cx="7396200" cy="422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regun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¿Es la preferencia del votante medio siempre eficiente?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spuesta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i dos de los tres votantes prefiriesen la  cantidad de 1.200 dólares, se invertiría demasiad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Si dos de los tres votantes prefiriesen la cantidad de 600 dólares, se invertiría poc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s preferencias privadas por los bienes públic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votación por mayoría es ineficiente porque atribuye el mismo peso a las preferencias de todos los ciudadanos. El resultado eficiente pondera el voto de cada ciudadano en función de la intensidad de sus preferencias. 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7f7f"/>
                </a:solidFill>
                <a:latin typeface="Arial"/>
              </a:rPr>
              <a:t>Las preferencias privadas por los bienes públicos</a:t>
            </a:r>
            <a:endParaRPr b="1" lang="en-US" sz="29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1026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Rectangle 1027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62626"/>
                </a:solidFill>
                <a:latin typeface="Arial"/>
              </a:rPr>
              <a:t>Existe una externalidad cuando un productor o un consumidor ejerce en la producción o en el consumo de otros una influencia que no se refleja directamente en el mercado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62626"/>
                </a:solidFill>
                <a:latin typeface="Arial"/>
              </a:rPr>
              <a:t>La contaminación puede corregirse por medio de normas sobre las emisiones, tasas sobre las emisiones, permisos transferibles de contaminación o fomentando el reciclado</a:t>
            </a: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La ineficiencia provocada por los fallos del mercado puede eliminarse por medio de la negociación privada entre las partes afectadas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Los recursos de propiedad común no son controlados por una única persona y pueden utilizarse sin pagar un precio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1142640" y="1719360"/>
            <a:ext cx="800100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Los bienes que es improbable que los mercados privados produzcan eficientemente o no son rivales o no son excluyentes. Lo bienes públicos no son ninguna de las dos cosas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Un bien público se suministra eficientemente cuando la suma vertical de las demandas individuales es igual al coste marginal de producirl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54"/>
          <p:cNvGrpSpPr/>
          <p:nvPr/>
        </p:nvGrpSpPr>
        <p:grpSpPr>
          <a:xfrm>
            <a:off x="762120" y="2252520"/>
            <a:ext cx="7468560" cy="3008520"/>
            <a:chOff x="762120" y="2252520"/>
            <a:chExt cx="7468560" cy="3008520"/>
          </a:xfrm>
        </p:grpSpPr>
        <p:sp>
          <p:nvSpPr>
            <p:cNvPr id="594" name="Freeform 14"/>
            <p:cNvSpPr/>
            <p:nvPr/>
          </p:nvSpPr>
          <p:spPr>
            <a:xfrm>
              <a:off x="762120" y="2668680"/>
              <a:ext cx="2593800" cy="2363760"/>
            </a:xfrm>
            <a:custGeom>
              <a:avLst/>
              <a:gdLst>
                <a:gd name="textAreaLeft" fmla="*/ 0 w 2593800"/>
                <a:gd name="textAreaRight" fmla="*/ 2593800 w 2593800"/>
                <a:gd name="textAreaTop" fmla="*/ 0 h 2363760"/>
                <a:gd name="textAreaBottom" fmla="*/ 2364120 h 2363760"/>
              </a:gdLst>
              <a:ahLst/>
              <a:rect l="textAreaLeft" t="textAreaTop" r="textAreaRight" b="textAreaBottom"/>
              <a:pathLst>
                <a:path w="1634" h="1489">
                  <a:moveTo>
                    <a:pt x="0" y="1488"/>
                  </a:moveTo>
                  <a:lnTo>
                    <a:pt x="34" y="1478"/>
                  </a:lnTo>
                  <a:lnTo>
                    <a:pt x="74" y="1467"/>
                  </a:lnTo>
                  <a:lnTo>
                    <a:pt x="125" y="1452"/>
                  </a:lnTo>
                  <a:lnTo>
                    <a:pt x="183" y="1442"/>
                  </a:lnTo>
                  <a:lnTo>
                    <a:pt x="243" y="1421"/>
                  </a:lnTo>
                  <a:lnTo>
                    <a:pt x="311" y="1390"/>
                  </a:lnTo>
                  <a:lnTo>
                    <a:pt x="382" y="1359"/>
                  </a:lnTo>
                  <a:lnTo>
                    <a:pt x="453" y="1313"/>
                  </a:lnTo>
                  <a:lnTo>
                    <a:pt x="531" y="1262"/>
                  </a:lnTo>
                  <a:lnTo>
                    <a:pt x="619" y="1195"/>
                  </a:lnTo>
                  <a:lnTo>
                    <a:pt x="713" y="1123"/>
                  </a:lnTo>
                  <a:lnTo>
                    <a:pt x="808" y="1040"/>
                  </a:lnTo>
                  <a:lnTo>
                    <a:pt x="906" y="958"/>
                  </a:lnTo>
                  <a:lnTo>
                    <a:pt x="1001" y="875"/>
                  </a:lnTo>
                  <a:lnTo>
                    <a:pt x="1089" y="788"/>
                  </a:lnTo>
                  <a:lnTo>
                    <a:pt x="1166" y="706"/>
                  </a:lnTo>
                  <a:lnTo>
                    <a:pt x="1237" y="618"/>
                  </a:lnTo>
                  <a:lnTo>
                    <a:pt x="1308" y="520"/>
                  </a:lnTo>
                  <a:lnTo>
                    <a:pt x="1376" y="423"/>
                  </a:lnTo>
                  <a:lnTo>
                    <a:pt x="1437" y="325"/>
                  </a:lnTo>
                  <a:lnTo>
                    <a:pt x="1494" y="227"/>
                  </a:lnTo>
                  <a:lnTo>
                    <a:pt x="1545" y="139"/>
                  </a:lnTo>
                  <a:lnTo>
                    <a:pt x="1592" y="62"/>
                  </a:lnTo>
                  <a:lnTo>
                    <a:pt x="1633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5"/>
            <p:cNvSpPr/>
            <p:nvPr/>
          </p:nvSpPr>
          <p:spPr>
            <a:xfrm>
              <a:off x="5025960" y="3330720"/>
              <a:ext cx="2527200" cy="1930320"/>
            </a:xfrm>
            <a:custGeom>
              <a:avLst/>
              <a:gdLst>
                <a:gd name="textAreaLeft" fmla="*/ 0 w 2527200"/>
                <a:gd name="textAreaRight" fmla="*/ 2527560 w 2527200"/>
                <a:gd name="textAreaTop" fmla="*/ 0 h 1930320"/>
                <a:gd name="textAreaBottom" fmla="*/ 1930680 h 1930320"/>
              </a:gdLst>
              <a:ahLst/>
              <a:rect l="textAreaLeft" t="textAreaTop" r="textAreaRight" b="textAreaBottom"/>
              <a:pathLst>
                <a:path w="1592" h="1216">
                  <a:moveTo>
                    <a:pt x="0" y="1215"/>
                  </a:moveTo>
                  <a:lnTo>
                    <a:pt x="31" y="1204"/>
                  </a:lnTo>
                  <a:lnTo>
                    <a:pt x="69" y="1193"/>
                  </a:lnTo>
                  <a:lnTo>
                    <a:pt x="114" y="1177"/>
                  </a:lnTo>
                  <a:lnTo>
                    <a:pt x="168" y="1161"/>
                  </a:lnTo>
                  <a:lnTo>
                    <a:pt x="289" y="1113"/>
                  </a:lnTo>
                  <a:lnTo>
                    <a:pt x="426" y="1054"/>
                  </a:lnTo>
                  <a:lnTo>
                    <a:pt x="495" y="1016"/>
                  </a:lnTo>
                  <a:lnTo>
                    <a:pt x="579" y="973"/>
                  </a:lnTo>
                  <a:lnTo>
                    <a:pt x="746" y="876"/>
                  </a:lnTo>
                  <a:lnTo>
                    <a:pt x="914" y="769"/>
                  </a:lnTo>
                  <a:lnTo>
                    <a:pt x="990" y="715"/>
                  </a:lnTo>
                  <a:lnTo>
                    <a:pt x="1058" y="666"/>
                  </a:lnTo>
                  <a:lnTo>
                    <a:pt x="1172" y="570"/>
                  </a:lnTo>
                  <a:lnTo>
                    <a:pt x="1264" y="468"/>
                  </a:lnTo>
                  <a:lnTo>
                    <a:pt x="1340" y="376"/>
                  </a:lnTo>
                  <a:lnTo>
                    <a:pt x="1408" y="285"/>
                  </a:lnTo>
                  <a:lnTo>
                    <a:pt x="1469" y="204"/>
                  </a:lnTo>
                  <a:lnTo>
                    <a:pt x="1522" y="123"/>
                  </a:lnTo>
                  <a:lnTo>
                    <a:pt x="1561" y="53"/>
                  </a:lnTo>
                  <a:lnTo>
                    <a:pt x="1576" y="27"/>
                  </a:lnTo>
                  <a:lnTo>
                    <a:pt x="1591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6"/>
            <p:cNvSpPr/>
            <p:nvPr/>
          </p:nvSpPr>
          <p:spPr>
            <a:xfrm>
              <a:off x="3110040" y="2252520"/>
              <a:ext cx="53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17"/>
            <p:cNvSpPr/>
            <p:nvPr/>
          </p:nvSpPr>
          <p:spPr>
            <a:xfrm>
              <a:off x="7242840" y="2897280"/>
              <a:ext cx="987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 = CM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55"/>
          <p:cNvGrpSpPr/>
          <p:nvPr/>
        </p:nvGrpSpPr>
        <p:grpSpPr>
          <a:xfrm>
            <a:off x="311760" y="2433600"/>
            <a:ext cx="7908120" cy="3430440"/>
            <a:chOff x="311760" y="2433600"/>
            <a:chExt cx="7908120" cy="3430440"/>
          </a:xfrm>
        </p:grpSpPr>
        <p:sp>
          <p:nvSpPr>
            <p:cNvPr id="599" name="Line 18"/>
            <p:cNvSpPr/>
            <p:nvPr/>
          </p:nvSpPr>
          <p:spPr>
            <a:xfrm>
              <a:off x="763560" y="4419720"/>
              <a:ext cx="3351240" cy="0"/>
            </a:xfrm>
            <a:prstGeom prst="line">
              <a:avLst/>
            </a:prstGeom>
            <a:ln w="507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415120" y="2433600"/>
              <a:ext cx="2512800" cy="3056040"/>
            </a:xfrm>
            <a:custGeom>
              <a:avLst/>
              <a:gdLst>
                <a:gd name="textAreaLeft" fmla="*/ 0 w 2512800"/>
                <a:gd name="textAreaRight" fmla="*/ 2513160 w 2512800"/>
                <a:gd name="textAreaTop" fmla="*/ 0 h 3056040"/>
                <a:gd name="textAreaBottom" fmla="*/ 3056400 h 3056040"/>
              </a:gdLst>
              <a:ahLst/>
              <a:rect l="textAreaLeft" t="textAreaTop" r="textAreaRight" b="textAreaBottom"/>
              <a:pathLst>
                <a:path w="1583" h="1925">
                  <a:moveTo>
                    <a:pt x="0" y="0"/>
                  </a:moveTo>
                  <a:lnTo>
                    <a:pt x="112" y="208"/>
                  </a:lnTo>
                  <a:lnTo>
                    <a:pt x="216" y="410"/>
                  </a:lnTo>
                  <a:lnTo>
                    <a:pt x="328" y="601"/>
                  </a:lnTo>
                  <a:lnTo>
                    <a:pt x="384" y="685"/>
                  </a:lnTo>
                  <a:lnTo>
                    <a:pt x="432" y="769"/>
                  </a:lnTo>
                  <a:lnTo>
                    <a:pt x="480" y="847"/>
                  </a:lnTo>
                  <a:lnTo>
                    <a:pt x="527" y="920"/>
                  </a:lnTo>
                  <a:lnTo>
                    <a:pt x="615" y="1055"/>
                  </a:lnTo>
                  <a:lnTo>
                    <a:pt x="711" y="1178"/>
                  </a:lnTo>
                  <a:lnTo>
                    <a:pt x="815" y="1302"/>
                  </a:lnTo>
                  <a:lnTo>
                    <a:pt x="879" y="1369"/>
                  </a:lnTo>
                  <a:lnTo>
                    <a:pt x="943" y="1430"/>
                  </a:lnTo>
                  <a:lnTo>
                    <a:pt x="1087" y="1565"/>
                  </a:lnTo>
                  <a:lnTo>
                    <a:pt x="1159" y="1627"/>
                  </a:lnTo>
                  <a:lnTo>
                    <a:pt x="1230" y="1683"/>
                  </a:lnTo>
                  <a:lnTo>
                    <a:pt x="1286" y="1733"/>
                  </a:lnTo>
                  <a:lnTo>
                    <a:pt x="1342" y="1778"/>
                  </a:lnTo>
                  <a:lnTo>
                    <a:pt x="1390" y="1812"/>
                  </a:lnTo>
                  <a:lnTo>
                    <a:pt x="1422" y="1845"/>
                  </a:lnTo>
                  <a:lnTo>
                    <a:pt x="1462" y="1868"/>
                  </a:lnTo>
                  <a:lnTo>
                    <a:pt x="1486" y="1885"/>
                  </a:lnTo>
                  <a:lnTo>
                    <a:pt x="1542" y="1907"/>
                  </a:lnTo>
                  <a:lnTo>
                    <a:pt x="1582" y="1924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0"/>
            <p:cNvSpPr/>
            <p:nvPr/>
          </p:nvSpPr>
          <p:spPr>
            <a:xfrm>
              <a:off x="7873920" y="55008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6"/>
            <p:cNvSpPr/>
            <p:nvPr/>
          </p:nvSpPr>
          <p:spPr>
            <a:xfrm>
              <a:off x="311760" y="419256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Line 51"/>
          <p:cNvSpPr/>
          <p:nvPr/>
        </p:nvSpPr>
        <p:spPr>
          <a:xfrm>
            <a:off x="519120" y="120636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65"/>
          <p:cNvGrpSpPr/>
          <p:nvPr/>
        </p:nvGrpSpPr>
        <p:grpSpPr>
          <a:xfrm>
            <a:off x="6248520" y="3200400"/>
            <a:ext cx="2794320" cy="1271520"/>
            <a:chOff x="6248520" y="3200400"/>
            <a:chExt cx="2794320" cy="1271520"/>
          </a:xfrm>
        </p:grpSpPr>
        <p:sp>
          <p:nvSpPr>
            <p:cNvPr id="605" name="Freeform 4"/>
            <p:cNvSpPr/>
            <p:nvPr/>
          </p:nvSpPr>
          <p:spPr>
            <a:xfrm>
              <a:off x="6248520" y="3200400"/>
              <a:ext cx="382320" cy="122076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w="241" h="769">
                  <a:moveTo>
                    <a:pt x="240" y="0"/>
                  </a:moveTo>
                  <a:lnTo>
                    <a:pt x="240" y="768"/>
                  </a:lnTo>
                  <a:lnTo>
                    <a:pt x="0" y="480"/>
                  </a:lnTo>
                  <a:lnTo>
                    <a:pt x="240" y="0"/>
                  </a:lnTo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46"/>
            <p:cNvSpPr/>
            <p:nvPr/>
          </p:nvSpPr>
          <p:spPr>
            <a:xfrm>
              <a:off x="7654320" y="3430440"/>
              <a:ext cx="1388520" cy="819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e social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gregado de las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ernalidad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gativas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47"/>
            <p:cNvSpPr/>
            <p:nvPr/>
          </p:nvSpPr>
          <p:spPr>
            <a:xfrm flipH="1" flipV="1">
              <a:off x="6478560" y="3887640"/>
              <a:ext cx="1217520" cy="7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64"/>
            <p:cNvSpPr/>
            <p:nvPr/>
          </p:nvSpPr>
          <p:spPr>
            <a:xfrm>
              <a:off x="6626160" y="3232080"/>
              <a:ext cx="0" cy="12398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56"/>
          <p:cNvGrpSpPr/>
          <p:nvPr/>
        </p:nvGrpSpPr>
        <p:grpSpPr>
          <a:xfrm>
            <a:off x="760320" y="1155600"/>
            <a:ext cx="6446880" cy="5152320"/>
            <a:chOff x="760320" y="1155600"/>
            <a:chExt cx="6446880" cy="5152320"/>
          </a:xfrm>
        </p:grpSpPr>
        <p:sp>
          <p:nvSpPr>
            <p:cNvPr id="610" name="Line 5"/>
            <p:cNvSpPr/>
            <p:nvPr/>
          </p:nvSpPr>
          <p:spPr>
            <a:xfrm>
              <a:off x="6629400" y="4518000"/>
              <a:ext cx="0" cy="1425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1"/>
            <p:cNvSpPr/>
            <p:nvPr/>
          </p:nvSpPr>
          <p:spPr>
            <a:xfrm>
              <a:off x="1905120" y="4421160"/>
              <a:ext cx="0" cy="15224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2"/>
            <p:cNvSpPr/>
            <p:nvPr/>
          </p:nvSpPr>
          <p:spPr>
            <a:xfrm>
              <a:off x="1828800" y="4343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3"/>
            <p:cNvSpPr/>
            <p:nvPr/>
          </p:nvSpPr>
          <p:spPr>
            <a:xfrm>
              <a:off x="6553080" y="4343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4"/>
            <p:cNvSpPr/>
            <p:nvPr/>
          </p:nvSpPr>
          <p:spPr>
            <a:xfrm flipH="1">
              <a:off x="5030280" y="4419720"/>
              <a:ext cx="1460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25"/>
            <p:cNvSpPr/>
            <p:nvPr/>
          </p:nvSpPr>
          <p:spPr>
            <a:xfrm>
              <a:off x="4578840" y="4192560"/>
              <a:ext cx="406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27"/>
            <p:cNvSpPr/>
            <p:nvPr/>
          </p:nvSpPr>
          <p:spPr>
            <a:xfrm>
              <a:off x="1676880" y="5894280"/>
              <a:ext cx="394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28"/>
            <p:cNvSpPr/>
            <p:nvPr/>
          </p:nvSpPr>
          <p:spPr>
            <a:xfrm>
              <a:off x="6331320" y="5907240"/>
              <a:ext cx="432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9"/>
            <p:cNvSpPr/>
            <p:nvPr/>
          </p:nvSpPr>
          <p:spPr>
            <a:xfrm>
              <a:off x="760320" y="1982880"/>
              <a:ext cx="2367000" cy="3049560"/>
            </a:xfrm>
            <a:custGeom>
              <a:avLst/>
              <a:gdLst>
                <a:gd name="textAreaLeft" fmla="*/ 0 w 2367000"/>
                <a:gd name="textAreaRight" fmla="*/ 2367000 w 2367000"/>
                <a:gd name="textAreaTop" fmla="*/ 0 h 3049560"/>
                <a:gd name="textAreaBottom" fmla="*/ 3049920 h 3049560"/>
              </a:gdLst>
              <a:ahLst/>
              <a:rect l="textAreaLeft" t="textAreaTop" r="textAreaRight" b="textAreaBottom"/>
              <a:pathLst>
                <a:path w="1491" h="1921">
                  <a:moveTo>
                    <a:pt x="0" y="1920"/>
                  </a:moveTo>
                  <a:lnTo>
                    <a:pt x="31" y="1905"/>
                  </a:lnTo>
                  <a:lnTo>
                    <a:pt x="69" y="1894"/>
                  </a:lnTo>
                  <a:lnTo>
                    <a:pt x="113" y="1879"/>
                  </a:lnTo>
                  <a:lnTo>
                    <a:pt x="167" y="1858"/>
                  </a:lnTo>
                  <a:lnTo>
                    <a:pt x="224" y="1832"/>
                  </a:lnTo>
                  <a:lnTo>
                    <a:pt x="283" y="1796"/>
                  </a:lnTo>
                  <a:lnTo>
                    <a:pt x="346" y="1755"/>
                  </a:lnTo>
                  <a:lnTo>
                    <a:pt x="413" y="1699"/>
                  </a:lnTo>
                  <a:lnTo>
                    <a:pt x="485" y="1627"/>
                  </a:lnTo>
                  <a:lnTo>
                    <a:pt x="564" y="1544"/>
                  </a:lnTo>
                  <a:lnTo>
                    <a:pt x="649" y="1446"/>
                  </a:lnTo>
                  <a:lnTo>
                    <a:pt x="737" y="1344"/>
                  </a:lnTo>
                  <a:lnTo>
                    <a:pt x="825" y="1235"/>
                  </a:lnTo>
                  <a:lnTo>
                    <a:pt x="910" y="1127"/>
                  </a:lnTo>
                  <a:lnTo>
                    <a:pt x="989" y="1019"/>
                  </a:lnTo>
                  <a:lnTo>
                    <a:pt x="1062" y="911"/>
                  </a:lnTo>
                  <a:lnTo>
                    <a:pt x="1128" y="798"/>
                  </a:lnTo>
                  <a:lnTo>
                    <a:pt x="1191" y="674"/>
                  </a:lnTo>
                  <a:lnTo>
                    <a:pt x="1254" y="551"/>
                  </a:lnTo>
                  <a:lnTo>
                    <a:pt x="1310" y="422"/>
                  </a:lnTo>
                  <a:lnTo>
                    <a:pt x="1364" y="299"/>
                  </a:lnTo>
                  <a:lnTo>
                    <a:pt x="1411" y="185"/>
                  </a:lnTo>
                  <a:lnTo>
                    <a:pt x="1452" y="82"/>
                  </a:lnTo>
                  <a:lnTo>
                    <a:pt x="1474" y="41"/>
                  </a:lnTo>
                  <a:lnTo>
                    <a:pt x="1490" y="0"/>
                  </a:lnTo>
                </a:path>
              </a:pathLst>
            </a:custGeom>
            <a:noFill/>
            <a:ln cap="rnd" w="507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30"/>
            <p:cNvSpPr/>
            <p:nvPr/>
          </p:nvSpPr>
          <p:spPr>
            <a:xfrm>
              <a:off x="3110040" y="1754280"/>
              <a:ext cx="689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S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1"/>
            <p:cNvSpPr/>
            <p:nvPr/>
          </p:nvSpPr>
          <p:spPr>
            <a:xfrm>
              <a:off x="5024520" y="2664000"/>
              <a:ext cx="1760400" cy="2597040"/>
            </a:xfrm>
            <a:custGeom>
              <a:avLst/>
              <a:gdLst>
                <a:gd name="textAreaLeft" fmla="*/ 0 w 1760400"/>
                <a:gd name="textAreaRight" fmla="*/ 1760760 w 1760400"/>
                <a:gd name="textAreaTop" fmla="*/ 0 h 2597040"/>
                <a:gd name="textAreaBottom" fmla="*/ 2597400 h 2597040"/>
              </a:gdLst>
              <a:ahLst/>
              <a:rect l="textAreaLeft" t="textAreaTop" r="textAreaRight" b="textAreaBottom"/>
              <a:pathLst>
                <a:path w="1109" h="1636">
                  <a:moveTo>
                    <a:pt x="0" y="1635"/>
                  </a:moveTo>
                  <a:lnTo>
                    <a:pt x="55" y="1603"/>
                  </a:lnTo>
                  <a:lnTo>
                    <a:pt x="124" y="1560"/>
                  </a:lnTo>
                  <a:lnTo>
                    <a:pt x="206" y="1501"/>
                  </a:lnTo>
                  <a:lnTo>
                    <a:pt x="247" y="1463"/>
                  </a:lnTo>
                  <a:lnTo>
                    <a:pt x="294" y="1420"/>
                  </a:lnTo>
                  <a:lnTo>
                    <a:pt x="342" y="1371"/>
                  </a:lnTo>
                  <a:lnTo>
                    <a:pt x="397" y="1312"/>
                  </a:lnTo>
                  <a:lnTo>
                    <a:pt x="459" y="1248"/>
                  </a:lnTo>
                  <a:lnTo>
                    <a:pt x="520" y="1178"/>
                  </a:lnTo>
                  <a:lnTo>
                    <a:pt x="636" y="1033"/>
                  </a:lnTo>
                  <a:lnTo>
                    <a:pt x="691" y="963"/>
                  </a:lnTo>
                  <a:lnTo>
                    <a:pt x="739" y="898"/>
                  </a:lnTo>
                  <a:lnTo>
                    <a:pt x="814" y="769"/>
                  </a:lnTo>
                  <a:lnTo>
                    <a:pt x="882" y="635"/>
                  </a:lnTo>
                  <a:lnTo>
                    <a:pt x="937" y="506"/>
                  </a:lnTo>
                  <a:lnTo>
                    <a:pt x="985" y="387"/>
                  </a:lnTo>
                  <a:lnTo>
                    <a:pt x="1026" y="280"/>
                  </a:lnTo>
                  <a:lnTo>
                    <a:pt x="1060" y="172"/>
                  </a:lnTo>
                  <a:lnTo>
                    <a:pt x="1087" y="75"/>
                  </a:lnTo>
                  <a:lnTo>
                    <a:pt x="1094" y="32"/>
                  </a:lnTo>
                  <a:lnTo>
                    <a:pt x="1108" y="0"/>
                  </a:lnTo>
                </a:path>
              </a:pathLst>
            </a:custGeom>
            <a:noFill/>
            <a:ln cap="rnd" w="507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32"/>
            <p:cNvSpPr/>
            <p:nvPr/>
          </p:nvSpPr>
          <p:spPr>
            <a:xfrm>
              <a:off x="6481440" y="2211480"/>
              <a:ext cx="72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SM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49"/>
            <p:cNvSpPr/>
            <p:nvPr/>
          </p:nvSpPr>
          <p:spPr>
            <a:xfrm>
              <a:off x="828360" y="1155600"/>
              <a:ext cx="2168640" cy="81900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ando hay externalidade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gativas, el coste  social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ginal CSM es mayor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e el coste marginal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7"/>
          <p:cNvSpPr/>
          <p:nvPr/>
        </p:nvSpPr>
        <p:spPr>
          <a:xfrm>
            <a:off x="762120" y="1982880"/>
            <a:ext cx="0" cy="39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8"/>
          <p:cNvSpPr/>
          <p:nvPr/>
        </p:nvSpPr>
        <p:spPr>
          <a:xfrm>
            <a:off x="5029200" y="1982880"/>
            <a:ext cx="0" cy="39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763560" y="5943600"/>
            <a:ext cx="396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3489120" y="5878440"/>
            <a:ext cx="1242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ción 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empres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1"/>
          <p:cNvSpPr/>
          <p:nvPr/>
        </p:nvSpPr>
        <p:spPr>
          <a:xfrm>
            <a:off x="0" y="183024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2"/>
          <p:cNvSpPr/>
          <p:nvPr/>
        </p:nvSpPr>
        <p:spPr>
          <a:xfrm>
            <a:off x="7580160" y="5872320"/>
            <a:ext cx="1242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ción 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empres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3"/>
          <p:cNvSpPr/>
          <p:nvPr/>
        </p:nvSpPr>
        <p:spPr>
          <a:xfrm>
            <a:off x="4268880" y="1830240"/>
            <a:ext cx="801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>
            <a:off x="5030640" y="5943600"/>
            <a:ext cx="396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50"/>
          <p:cNvSpPr/>
          <p:nvPr/>
        </p:nvSpPr>
        <p:spPr>
          <a:xfrm>
            <a:off x="349200" y="1047600"/>
            <a:ext cx="835812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52"/>
          <p:cNvSpPr/>
          <p:nvPr/>
        </p:nvSpPr>
        <p:spPr>
          <a:xfrm>
            <a:off x="349200" y="6281640"/>
            <a:ext cx="835812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53"/>
          <p:cNvSpPr/>
          <p:nvPr/>
        </p:nvSpPr>
        <p:spPr>
          <a:xfrm>
            <a:off x="519120" y="644040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58"/>
          <p:cNvGrpSpPr/>
          <p:nvPr/>
        </p:nvGrpSpPr>
        <p:grpSpPr>
          <a:xfrm>
            <a:off x="763560" y="1117440"/>
            <a:ext cx="7738920" cy="4826160"/>
            <a:chOff x="763560" y="1117440"/>
            <a:chExt cx="7738920" cy="4826160"/>
          </a:xfrm>
        </p:grpSpPr>
        <p:sp>
          <p:nvSpPr>
            <p:cNvPr id="637" name="Line 34"/>
            <p:cNvSpPr/>
            <p:nvPr/>
          </p:nvSpPr>
          <p:spPr>
            <a:xfrm flipV="1">
              <a:off x="763560" y="5335200"/>
              <a:ext cx="2817720" cy="60804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5"/>
            <p:cNvSpPr/>
            <p:nvPr/>
          </p:nvSpPr>
          <p:spPr>
            <a:xfrm>
              <a:off x="3583080" y="5030640"/>
              <a:ext cx="689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36"/>
            <p:cNvSpPr/>
            <p:nvPr/>
          </p:nvSpPr>
          <p:spPr>
            <a:xfrm flipV="1">
              <a:off x="5030640" y="4726080"/>
              <a:ext cx="2741760" cy="121752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7"/>
            <p:cNvSpPr/>
            <p:nvPr/>
          </p:nvSpPr>
          <p:spPr>
            <a:xfrm>
              <a:off x="7776720" y="4497480"/>
              <a:ext cx="72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M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57"/>
            <p:cNvSpPr/>
            <p:nvPr/>
          </p:nvSpPr>
          <p:spPr>
            <a:xfrm>
              <a:off x="3798720" y="1117440"/>
              <a:ext cx="1551600" cy="6364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 diferencia es el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e externo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ginal CEM.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Line 39"/>
          <p:cNvSpPr/>
          <p:nvPr/>
        </p:nvSpPr>
        <p:spPr>
          <a:xfrm>
            <a:off x="1676520" y="4433760"/>
            <a:ext cx="0" cy="1509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40"/>
          <p:cNvSpPr/>
          <p:nvPr/>
        </p:nvSpPr>
        <p:spPr>
          <a:xfrm>
            <a:off x="1600200" y="43434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1"/>
          <p:cNvSpPr/>
          <p:nvPr/>
        </p:nvSpPr>
        <p:spPr>
          <a:xfrm>
            <a:off x="1290600" y="5894280"/>
            <a:ext cx="4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42"/>
          <p:cNvSpPr/>
          <p:nvPr/>
        </p:nvSpPr>
        <p:spPr>
          <a:xfrm>
            <a:off x="6248520" y="4027320"/>
            <a:ext cx="0" cy="1916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val 43"/>
          <p:cNvSpPr/>
          <p:nvPr/>
        </p:nvSpPr>
        <p:spPr>
          <a:xfrm>
            <a:off x="6172200" y="38862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44"/>
          <p:cNvSpPr/>
          <p:nvPr/>
        </p:nvSpPr>
        <p:spPr>
          <a:xfrm flipH="1">
            <a:off x="5030280" y="3962520"/>
            <a:ext cx="12178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5"/>
          <p:cNvSpPr/>
          <p:nvPr/>
        </p:nvSpPr>
        <p:spPr>
          <a:xfrm>
            <a:off x="4573440" y="3735360"/>
            <a:ext cx="42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8"/>
          <p:cNvSpPr/>
          <p:nvPr/>
        </p:nvSpPr>
        <p:spPr>
          <a:xfrm>
            <a:off x="5945040" y="5907240"/>
            <a:ext cx="448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3"/>
          <p:cNvSpPr/>
          <p:nvPr/>
        </p:nvSpPr>
        <p:spPr>
          <a:xfrm>
            <a:off x="3148920" y="3086280"/>
            <a:ext cx="2711160" cy="661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nivel de producción competitiv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la industria es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uando 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vel eficiente es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Q*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59"/>
          <p:cNvSpPr/>
          <p:nvPr/>
        </p:nvSpPr>
        <p:spPr>
          <a:xfrm>
            <a:off x="5723640" y="1117440"/>
            <a:ext cx="2781360" cy="636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a empresa maximizadora de lo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eficios produce q1,  cuando e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vel de producción eficiente es q*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50440" y="142560"/>
            <a:ext cx="798372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Arial"/>
              </a:rPr>
              <a:t>El coste externo</a:t>
            </a:r>
            <a:endParaRPr b="1" lang="en-US" sz="44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Resumen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62626"/>
                </a:solidFill>
                <a:latin typeface="Arial"/>
              </a:rPr>
              <a:t>En el sistema de votación por mayoría, el nivel de gasto realizado es el que prefiere el votante medio. Este resultado no tiene por qué ser eficiente</a:t>
            </a: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El coste externo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La externalidades negativas animan a las empresas ineficientes a permanecer en la industria y a producir más a largo plazo.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3 Marcador de pie de página"/>
          <p:cNvSpPr/>
          <p:nvPr/>
        </p:nvSpPr>
        <p:spPr>
          <a:xfrm>
            <a:off x="334800" y="6515280"/>
            <a:ext cx="685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7f7f7f"/>
                </a:solidFill>
                <a:latin typeface="Calibri"/>
                <a:ea typeface="Calibri"/>
              </a:rPr>
              <a:t>Tema 5 - Fallos de Merc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43080" y="9360"/>
            <a:ext cx="7648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f7f7f"/>
                </a:solidFill>
                <a:latin typeface="Arial"/>
              </a:rPr>
              <a:t>Las externalidades</a:t>
            </a:r>
            <a:endParaRPr b="1" lang="en-US" sz="3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52080" y="1247760"/>
            <a:ext cx="8248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Arial"/>
              </a:rPr>
              <a:t>Externalidades positivas e ineficientes:</a:t>
            </a:r>
            <a:endParaRPr b="0" lang="en-US" sz="32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Las externalidades también pueden dar como resultado la producción de una cantidad excesivamente pequeña, como muestra el ejemplo de la reparación y el ajardinamiento de la vivienda. </a:t>
            </a:r>
            <a:endParaRPr b="0" lang="en-US" sz="2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4T00:22:12Z</dcterms:created>
  <dc:creator>Jeff Caldwell</dc:creator>
  <dc:description/>
  <dc:language>en-US</dc:language>
  <cp:lastModifiedBy>AlCAMPO</cp:lastModifiedBy>
  <dcterms:modified xsi:type="dcterms:W3CDTF">2012-11-05T09:50:17Z</dcterms:modified>
  <cp:revision>417</cp:revision>
  <dc:subject/>
  <dc:title>Chapter 1</dc:title>
</cp:coreProperties>
</file>